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E108-6EA5-4F2D-A272-9CF40B82B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C43D-73D3-46CE-AF35-E493DC5F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FF2F42-FE33-4139-AF6F-ECC661F1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90E171-6FB8-4D9D-8913-2246AC6A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B16C99-E73F-4B49-AC1F-F64860E8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51D342-9F40-4EB3-B539-59F53E9A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5A4FE0-082A-4315-A68C-C4A935F1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118F61-CA70-4B11-88D9-E40651E0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EF2C92-39A6-48D9-AD4D-1DEBAB12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D70226-719F-43A0-B40D-59678C03A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48E439-4CD0-4F96-B10E-2810E38DD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14A3C8-790F-4692-A666-70AEE87E7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DDB8-B01A-4994-82E1-8853E1F62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4B1377-5AA2-4AA9-BC11-FB6A4520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8E51F1-F0B9-4E2A-94BC-7909E5FD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8D9AF7-77CE-400E-B065-61B5871A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0E7141-3CDC-4375-89D9-501DC9FC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125BFA-DEB9-450E-937D-C9218F79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B597B0-61BE-4600-BEDA-AB264B43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97F2B0-D3CE-4309-BAA2-EF04C3C0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801DAE-2FCC-4A14-83E6-02BAB75E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F7634C-F2A9-4DE3-A4AF-AE4263B8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473A8C-8277-4AD5-B675-DCE12F267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0E24-B4D8-4F91-9002-300B0D8BB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E8490C-8235-49FB-AA97-22D5C2D30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6AFF8C-23AC-4876-978E-309FE92D4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D23019-596A-4823-8E5F-4B6C4A95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A3E1B6-A83B-4CE4-893B-86EF8BBB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1E3A5F-C1E8-4FB8-9BD2-860A8473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62B010-D440-4C38-BCFD-FDA81B6E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488816-DE39-4EB4-BF54-F6293630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43518F-3478-4912-8686-B7A90743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434772-B91D-4FC7-BBA6-A458129F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B35ACE-46FD-42CF-9C4E-533E6728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E6B179-7EA9-46ED-B882-0AFC9477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1D4AF2-D433-476A-83AC-11B7A6CE1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BD612A-2E67-4B7C-A22A-5ADCCDF18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9869CB-F710-4476-8A3B-41B1EAC5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469345-C082-4DFE-80DB-28768463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7904B08-D398-4301-8167-9CC41036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BFBE2F6-192F-4D1B-89DB-F82952DE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3BB96E-37D9-43B4-ABCE-18D1E9F1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703286-271E-4BB9-A530-5A504C20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2D7EE67-0AEA-40C1-B40B-79B089BA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E60C4C7-0DAE-4C6D-8975-DD12FF64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713BCB-7A79-4DC7-A3F9-A825F8F7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84040B-6FE3-48C0-982F-58E0C37F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25188AA-CB8C-43D6-B1EF-2CCCCECBD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082055-A489-4985-9584-26E997573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5988-2F90-44E9-98C7-D7BDA184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351C41-F821-422B-A638-A9AF4DD8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A2D972-2E0F-4F0C-979C-E653E8F4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38DC34-C499-4DDF-A4B6-0D96D3F0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1AA980-F790-448C-8B4F-34F574A4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42EFD7-7FFA-433F-8584-56F575C9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3B48-BB81-4D27-A0FD-6F11A579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D81EC5-0963-411D-8F00-7C578146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891D5F-7784-437E-9AE9-06DBD472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46E6D1-71AC-41BC-B5DC-3ACA30B3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B6BF53-208D-43EF-B34E-3274071D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C82367-3125-41B7-ABCA-8140A431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FC3C9E-FAA1-45C3-831E-44B362804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F0ED0E-9A9A-4E45-A684-EBB296BC9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755F3A-CD85-4924-B0C2-7B342E6F4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78CC21-832D-43DE-A4EC-B75E3EED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D3B91E-3E32-494D-A710-66FFD82B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D6C0-2EFD-436C-9E35-9A5F3FB5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2E4D49-5B2D-4022-9ABB-FC9EC510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7964E4-5812-4331-A090-761D6E2D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2D1AC5-48FA-4D9F-AAFF-5C389F1E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FE2AC0-A224-4C31-AD01-0D006D95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35417B-0E60-4CFE-965D-FEE57DEF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9045D0-8E7D-490C-9443-A6FF1968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496BA8-DAE2-42B4-BACE-E724AFB6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759577-A454-4E7B-BD69-F2A047F09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0F64EE-C730-4E0B-ADAB-84EE9C0D4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3F9E-4C90-4714-8C60-E10E1CC7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074E-4035-4B6C-BC37-8A63C3C9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5F90AA-D835-4F68-A9F0-61AFB7011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AA876B-6C6B-4CF2-AE50-4595F36B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432198-EED6-42FA-9A6C-FF7CC131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1B0FD9-C881-4560-B04B-48CAACEE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A8D844-3CE7-4181-8192-AF5C251F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C8BF3A-5B80-441B-9E90-0701E02F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57A79B-2B7C-47A3-A4DB-BDE3F125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2D0408-73E3-47BC-B1E7-44D067C4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13E220-49E0-476E-A1CB-B84EEF52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2D59-DC01-4A8A-82A5-DDD27334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E89086-1F0C-4CF9-B0AC-4DEED951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0BADDA-FC30-45A1-B95E-70C08B329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6BD6E0-F2A0-4427-BE37-A3E0EA910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417ACC-D8B5-4611-A878-4FB7B221E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BDC043-36CD-4933-903A-7DA945DC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AB7946-3366-4BEF-BA49-3CB45813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3F9E0F-4FEF-498A-88FE-6EC01ED1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C4AFFE-E9FB-45EA-B856-672B57F8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08A8E5-2009-41FB-8613-95F6AD17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0E81FD-0632-4239-B385-F6A07760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00B5-D007-4C54-85C2-9A2297C9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BB8271-E671-401B-8297-96A6653F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BF1A1E-C57D-4D6D-8A16-60066B89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C58E1A-FCC3-4D2A-93A0-8126B550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2F91F3-4E89-499E-9B65-8680EE1CF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7912BA-99D5-444F-8E0D-407905F61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0645D7-F438-42A6-A847-0BCB68404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4EF509-A730-4492-A045-AEB49C5C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A3D9D8-0D6B-4F11-9C62-EECC6F5F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FC8A17-BC9F-4E84-B394-AD5910F6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3E0236-7F74-471B-9E5F-1485437B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D35B-BB84-4487-85C2-73429458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DD7F0D-55B9-4E14-8F35-5DB8FB2C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8103FB-6118-4391-AF76-7ADF82A9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C25C57-B4EC-432B-81F0-26A9DF2D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C2F351-4D5D-49B0-8DD1-159B8C55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3D6505-A8CC-4863-B1B4-24089E58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B7DE08-CC52-455E-9D53-3653C2E5C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BB4DF6-FB16-43DA-B330-56A4A45D6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93910E-68DA-40C0-9002-E6568DBD5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28C3EC-82A6-4416-8980-D6EC548B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70AC0E-CECD-43DB-9B2A-BE1F821B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04e22"/>
                </a:solidFill>
                <a:latin typeface="Aleo"/>
              </a:rPr>
              <a:t>Click to edit the title text format</a:t>
            </a: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83800" y="6416280"/>
            <a:ext cx="213372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a3437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C97D-EC20-4D8A-B17D-2395348741D4}" type="datetime3">
              <a:rPr b="0" lang="en-US" sz="1200" spc="-1" strike="noStrike">
                <a:solidFill>
                  <a:srgbClr val="0a3437"/>
                </a:solidFill>
                <a:latin typeface="Myriad Pro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84160" y="62053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a3437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a3437"/>
                </a:solidFill>
                <a:latin typeface="Myriad Pro"/>
              </a:rPr>
              <a:t>@sylvainpe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50920" y="6159240"/>
            <a:ext cx="62208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a3437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DB99-938E-4CFD-BE2D-70E0CBC75811}" type="slidenum">
              <a:rPr b="1" lang="en-US" sz="2800" spc="-1" strike="noStrike">
                <a:solidFill>
                  <a:srgbClr val="0a3437"/>
                </a:solidFill>
                <a:latin typeface="Myriad Pro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Düz Bağlayıcı 6"/>
          <p:cNvSpPr/>
          <p:nvPr/>
        </p:nvSpPr>
        <p:spPr>
          <a:xfrm>
            <a:off x="900000" y="6205680"/>
            <a:ext cx="0" cy="360360"/>
          </a:xfrm>
          <a:prstGeom prst="line">
            <a:avLst/>
          </a:prstGeom>
          <a:ln w="9360">
            <a:solidFill>
              <a:srgbClr val="0a34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4" name="Resim Yer Tutucusu 13" descr=""/>
          <p:cNvPicPr/>
          <p:nvPr/>
        </p:nvPicPr>
        <p:blipFill>
          <a:blip r:embed="rId3"/>
          <a:stretch/>
        </p:blipFill>
        <p:spPr>
          <a:xfrm>
            <a:off x="7164360" y="6129360"/>
            <a:ext cx="1593720" cy="539640"/>
          </a:xfrm>
          <a:prstGeom prst="rect">
            <a:avLst/>
          </a:prstGeom>
          <a:ln w="0">
            <a:noFill/>
          </a:ln>
        </p:spPr>
      </p:pic>
      <p:sp>
        <p:nvSpPr>
          <p:cNvPr id="385" name="Dikdörtgen 11"/>
          <p:cNvSpPr/>
          <p:nvPr/>
        </p:nvSpPr>
        <p:spPr>
          <a:xfrm>
            <a:off x="0" y="268200"/>
            <a:ext cx="503280" cy="287280"/>
          </a:xfrm>
          <a:custGeom>
            <a:avLst/>
            <a:gdLst/>
            <a:ahLst/>
            <a:rect l="l" t="t" r="r" b="b"/>
            <a:pathLst>
              <a:path w="504000" h="286644">
                <a:moveTo>
                  <a:pt x="0" y="0"/>
                </a:moveTo>
                <a:lnTo>
                  <a:pt x="504000" y="64294"/>
                </a:lnTo>
                <a:lnTo>
                  <a:pt x="361125" y="286644"/>
                </a:lnTo>
                <a:lnTo>
                  <a:pt x="0" y="280294"/>
                </a:lnTo>
                <a:lnTo>
                  <a:pt x="0" y="0"/>
                </a:lnTo>
                <a:close/>
              </a:path>
            </a:pathLst>
          </a:custGeom>
          <a:solidFill>
            <a:srgbClr val="f04e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04e22"/>
                </a:solidFill>
                <a:latin typeface="Aleo"/>
              </a:rPr>
              <a:t>Click to edit the title text format</a:t>
            </a: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4"/>
          </p:nvPr>
        </p:nvSpPr>
        <p:spPr>
          <a:xfrm>
            <a:off x="883800" y="6416280"/>
            <a:ext cx="213372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a3437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6A3C-35AB-44CE-9394-C3D0F8663D85}" type="datetime3">
              <a:rPr b="0" lang="en-US" sz="1200" spc="-1" strike="noStrike">
                <a:solidFill>
                  <a:srgbClr val="0a3437"/>
                </a:solidFill>
                <a:latin typeface="Myriad Pro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5"/>
          </p:nvPr>
        </p:nvSpPr>
        <p:spPr>
          <a:xfrm>
            <a:off x="884160" y="62053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a3437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a3437"/>
                </a:solidFill>
                <a:latin typeface="Myriad Pro"/>
              </a:rPr>
              <a:t>@sylvainpe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26"/>
          </p:nvPr>
        </p:nvSpPr>
        <p:spPr>
          <a:xfrm>
            <a:off x="250920" y="6159240"/>
            <a:ext cx="62208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a3437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C854-8BFC-46D6-8DDA-1B764555E5D4}" type="slidenum">
              <a:rPr b="1" lang="en-US" sz="2800" spc="-1" strike="noStrike">
                <a:solidFill>
                  <a:srgbClr val="0a3437"/>
                </a:solidFill>
                <a:latin typeface="Myriad Pro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Düz Bağlayıcı 6"/>
          <p:cNvSpPr/>
          <p:nvPr/>
        </p:nvSpPr>
        <p:spPr>
          <a:xfrm>
            <a:off x="900000" y="6205680"/>
            <a:ext cx="0" cy="360360"/>
          </a:xfrm>
          <a:prstGeom prst="line">
            <a:avLst/>
          </a:prstGeom>
          <a:ln w="9360">
            <a:solidFill>
              <a:srgbClr val="0a34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8" name="Resim Yer Tutucusu 13" descr=""/>
          <p:cNvPicPr/>
          <p:nvPr/>
        </p:nvPicPr>
        <p:blipFill>
          <a:blip r:embed="rId3"/>
          <a:stretch/>
        </p:blipFill>
        <p:spPr>
          <a:xfrm>
            <a:off x="7164360" y="6129360"/>
            <a:ext cx="1593720" cy="539640"/>
          </a:xfrm>
          <a:prstGeom prst="rect">
            <a:avLst/>
          </a:prstGeom>
          <a:ln w="0">
            <a:noFill/>
          </a:ln>
        </p:spPr>
      </p:pic>
      <p:sp>
        <p:nvSpPr>
          <p:cNvPr id="429" name="Dikdörtgen 11"/>
          <p:cNvSpPr/>
          <p:nvPr/>
        </p:nvSpPr>
        <p:spPr>
          <a:xfrm>
            <a:off x="0" y="268200"/>
            <a:ext cx="503280" cy="287280"/>
          </a:xfrm>
          <a:custGeom>
            <a:avLst/>
            <a:gdLst/>
            <a:ahLst/>
            <a:rect l="l" t="t" r="r" b="b"/>
            <a:pathLst>
              <a:path w="504000" h="286644">
                <a:moveTo>
                  <a:pt x="0" y="0"/>
                </a:moveTo>
                <a:lnTo>
                  <a:pt x="504000" y="64294"/>
                </a:lnTo>
                <a:lnTo>
                  <a:pt x="361125" y="286644"/>
                </a:lnTo>
                <a:lnTo>
                  <a:pt x="0" y="280294"/>
                </a:lnTo>
                <a:lnTo>
                  <a:pt x="0" y="0"/>
                </a:lnTo>
                <a:close/>
              </a:path>
            </a:pathLst>
          </a:custGeom>
          <a:solidFill>
            <a:srgbClr val="f04e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04e22"/>
                </a:solidFill>
                <a:latin typeface="Aleo"/>
              </a:rPr>
              <a:t>Click to edit the title text format</a:t>
            </a: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7"/>
          </p:nvPr>
        </p:nvSpPr>
        <p:spPr>
          <a:xfrm>
            <a:off x="883800" y="6416280"/>
            <a:ext cx="213372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a3437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0B40-0AE8-4895-97B3-782BF908D972}" type="datetime3">
              <a:rPr b="0" lang="en-US" sz="1200" spc="-1" strike="noStrike">
                <a:solidFill>
                  <a:srgbClr val="0a3437"/>
                </a:solidFill>
                <a:latin typeface="Myriad Pro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8"/>
          </p:nvPr>
        </p:nvSpPr>
        <p:spPr>
          <a:xfrm>
            <a:off x="884160" y="62053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a3437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a3437"/>
                </a:solidFill>
                <a:latin typeface="Myriad Pro"/>
              </a:rPr>
              <a:t>@sylvainpe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29"/>
          </p:nvPr>
        </p:nvSpPr>
        <p:spPr>
          <a:xfrm>
            <a:off x="250920" y="6159240"/>
            <a:ext cx="62208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a3437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E4F9-BA20-4C34-8C74-94C8BF391692}" type="slidenum">
              <a:rPr b="1" lang="en-US" sz="2800" spc="-1" strike="noStrike">
                <a:solidFill>
                  <a:srgbClr val="0a3437"/>
                </a:solidFill>
                <a:latin typeface="Myriad Pro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Resim Yer Tutucusu 13" descr=""/>
          <p:cNvPicPr/>
          <p:nvPr/>
        </p:nvPicPr>
        <p:blipFill>
          <a:blip r:embed="rId3"/>
          <a:stretch/>
        </p:blipFill>
        <p:spPr>
          <a:xfrm>
            <a:off x="7164360" y="6129360"/>
            <a:ext cx="1593720" cy="53964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04e22"/>
                </a:solidFill>
                <a:latin typeface="Aleo"/>
              </a:rPr>
              <a:t>Click to edit the title text format</a:t>
            </a: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0"/>
          </p:nvPr>
        </p:nvSpPr>
        <p:spPr>
          <a:xfrm>
            <a:off x="883800" y="6416280"/>
            <a:ext cx="213372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a3437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C3D8-E6A5-4E7D-A30D-98D9BC21BABA}" type="datetime3">
              <a:rPr b="0" lang="en-US" sz="1200" spc="-1" strike="noStrike">
                <a:solidFill>
                  <a:srgbClr val="0a3437"/>
                </a:solidFill>
                <a:latin typeface="Myriad Pro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1"/>
          </p:nvPr>
        </p:nvSpPr>
        <p:spPr>
          <a:xfrm>
            <a:off x="884160" y="62053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a3437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a3437"/>
                </a:solidFill>
                <a:latin typeface="Myriad Pro"/>
              </a:rPr>
              <a:t>@sylvainpe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2"/>
          </p:nvPr>
        </p:nvSpPr>
        <p:spPr>
          <a:xfrm>
            <a:off x="250920" y="6159240"/>
            <a:ext cx="62208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a3437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9595-5189-4A0C-9BFC-0E0F7A8062A4}" type="slidenum">
              <a:rPr b="1" lang="en-US" sz="2800" spc="-1" strike="noStrike">
                <a:solidFill>
                  <a:srgbClr val="0a3437"/>
                </a:solidFill>
                <a:latin typeface="Myriad Pro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04e22"/>
                </a:solidFill>
                <a:latin typeface="Aleo"/>
              </a:rPr>
              <a:t>Click to edit the title text format</a:t>
            </a: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6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d0d0d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19C5-FA1C-4463-93D9-E1D139268E4E}" type="datetime3">
              <a:rPr b="0" lang="en-US" sz="1500" spc="-1" strike="noStrike">
                <a:solidFill>
                  <a:srgbClr val="0d0d0d"/>
                </a:solidFill>
                <a:latin typeface="Myriad Pro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84360" y="6308280"/>
            <a:ext cx="158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8f2da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8f2da"/>
                </a:solidFill>
                <a:latin typeface="Myriad Pro"/>
              </a:rPr>
              <a:t>@sylvainperri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üz Bağlayıcı 6"/>
          <p:cNvSpPr/>
          <p:nvPr/>
        </p:nvSpPr>
        <p:spPr>
          <a:xfrm>
            <a:off x="900000" y="6205680"/>
            <a:ext cx="0" cy="360360"/>
          </a:xfrm>
          <a:prstGeom prst="line">
            <a:avLst/>
          </a:prstGeom>
          <a:ln w="9360">
            <a:solidFill>
              <a:srgbClr val="0a34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Dikdörtgen 11"/>
          <p:cNvSpPr/>
          <p:nvPr/>
        </p:nvSpPr>
        <p:spPr>
          <a:xfrm>
            <a:off x="0" y="268200"/>
            <a:ext cx="503280" cy="287280"/>
          </a:xfrm>
          <a:custGeom>
            <a:avLst/>
            <a:gdLst/>
            <a:ahLst/>
            <a:rect l="l" t="t" r="r" b="b"/>
            <a:pathLst>
              <a:path w="504000" h="286644">
                <a:moveTo>
                  <a:pt x="0" y="0"/>
                </a:moveTo>
                <a:lnTo>
                  <a:pt x="504000" y="64294"/>
                </a:lnTo>
                <a:lnTo>
                  <a:pt x="361125" y="286644"/>
                </a:lnTo>
                <a:lnTo>
                  <a:pt x="0" y="280294"/>
                </a:lnTo>
                <a:lnTo>
                  <a:pt x="0" y="0"/>
                </a:lnTo>
                <a:close/>
              </a:path>
            </a:pathLst>
          </a:custGeom>
          <a:solidFill>
            <a:srgbClr val="f04e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Resim Yer Tutucusu 13" descr=""/>
          <p:cNvPicPr/>
          <p:nvPr/>
        </p:nvPicPr>
        <p:blipFill>
          <a:blip r:embed="rId3"/>
          <a:stretch/>
        </p:blipFill>
        <p:spPr>
          <a:xfrm>
            <a:off x="7164360" y="6129360"/>
            <a:ext cx="1593720" cy="5396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04e22"/>
                </a:solidFill>
                <a:latin typeface="Aleo"/>
              </a:rPr>
              <a:t>Click to edit the title text format</a:t>
            </a: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6"/>
          </p:nvPr>
        </p:nvSpPr>
        <p:spPr>
          <a:xfrm>
            <a:off x="883800" y="6416280"/>
            <a:ext cx="213372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a3437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5D43-1482-4053-9CB8-C0ACC92A25AB}" type="datetime3">
              <a:rPr b="0" lang="en-US" sz="1200" spc="-1" strike="noStrike">
                <a:solidFill>
                  <a:srgbClr val="0a3437"/>
                </a:solidFill>
                <a:latin typeface="Myriad Pro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884160" y="6206760"/>
            <a:ext cx="289584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a3437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a3437"/>
                </a:solidFill>
                <a:latin typeface="Myriad Pro"/>
              </a:rPr>
              <a:t>@sylvainpe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8"/>
          </p:nvPr>
        </p:nvSpPr>
        <p:spPr>
          <a:xfrm>
            <a:off x="250920" y="6159240"/>
            <a:ext cx="62208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a3437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0EE0-A3A6-4F97-AB2D-7005E9A224B5}" type="slidenum">
              <a:rPr b="1" lang="en-US" sz="2800" spc="-1" strike="noStrike">
                <a:solidFill>
                  <a:srgbClr val="0a3437"/>
                </a:solidFill>
                <a:latin typeface="Myriad Pro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üz Bağlayıcı 6"/>
          <p:cNvSpPr/>
          <p:nvPr/>
        </p:nvSpPr>
        <p:spPr>
          <a:xfrm>
            <a:off x="900000" y="6205680"/>
            <a:ext cx="0" cy="360360"/>
          </a:xfrm>
          <a:prstGeom prst="line">
            <a:avLst/>
          </a:prstGeom>
          <a:ln w="9360">
            <a:solidFill>
              <a:srgbClr val="0a34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Dikdörtgen 11"/>
          <p:cNvSpPr/>
          <p:nvPr/>
        </p:nvSpPr>
        <p:spPr>
          <a:xfrm>
            <a:off x="0" y="268200"/>
            <a:ext cx="503280" cy="287280"/>
          </a:xfrm>
          <a:custGeom>
            <a:avLst/>
            <a:gdLst/>
            <a:ahLst/>
            <a:rect l="l" t="t" r="r" b="b"/>
            <a:pathLst>
              <a:path w="504000" h="286644">
                <a:moveTo>
                  <a:pt x="0" y="0"/>
                </a:moveTo>
                <a:lnTo>
                  <a:pt x="504000" y="64294"/>
                </a:lnTo>
                <a:lnTo>
                  <a:pt x="361125" y="286644"/>
                </a:lnTo>
                <a:lnTo>
                  <a:pt x="0" y="280294"/>
                </a:lnTo>
                <a:lnTo>
                  <a:pt x="0" y="0"/>
                </a:lnTo>
                <a:close/>
              </a:path>
            </a:pathLst>
          </a:custGeom>
          <a:solidFill>
            <a:srgbClr val="f04e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Resim Yer Tutucusu 13" descr=""/>
          <p:cNvPicPr/>
          <p:nvPr/>
        </p:nvPicPr>
        <p:blipFill>
          <a:blip r:embed="rId3"/>
          <a:stretch/>
        </p:blipFill>
        <p:spPr>
          <a:xfrm>
            <a:off x="7164360" y="6129360"/>
            <a:ext cx="1593720" cy="5396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04e22"/>
                </a:solidFill>
                <a:latin typeface="Aleo"/>
              </a:rPr>
              <a:t>Click to edit the title text format</a:t>
            </a: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9"/>
          </p:nvPr>
        </p:nvSpPr>
        <p:spPr>
          <a:xfrm>
            <a:off x="883800" y="6416280"/>
            <a:ext cx="213372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a3437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5B89-2563-4C19-A7D9-71015558368D}" type="datetime3">
              <a:rPr b="0" lang="en-US" sz="1200" spc="-1" strike="noStrike">
                <a:solidFill>
                  <a:srgbClr val="0a3437"/>
                </a:solidFill>
                <a:latin typeface="Myriad Pro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0"/>
          </p:nvPr>
        </p:nvSpPr>
        <p:spPr>
          <a:xfrm>
            <a:off x="884160" y="6206760"/>
            <a:ext cx="289584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a3437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a3437"/>
                </a:solidFill>
                <a:latin typeface="Myriad Pro"/>
              </a:rPr>
              <a:t>@sylvainpe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1"/>
          </p:nvPr>
        </p:nvSpPr>
        <p:spPr>
          <a:xfrm>
            <a:off x="250920" y="6159240"/>
            <a:ext cx="62208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a3437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88B8-9C6D-4DC1-83A2-70B480113F32}" type="slidenum">
              <a:rPr b="1" lang="en-US" sz="2800" spc="-1" strike="noStrike">
                <a:solidFill>
                  <a:srgbClr val="0a3437"/>
                </a:solidFill>
                <a:latin typeface="Myriad Pro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04e22"/>
                </a:solidFill>
                <a:latin typeface="Aleo"/>
              </a:rPr>
              <a:t>Click to edit the title text format</a:t>
            </a: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üz Bağlayıcı 6"/>
          <p:cNvSpPr/>
          <p:nvPr/>
        </p:nvSpPr>
        <p:spPr>
          <a:xfrm>
            <a:off x="900000" y="6205680"/>
            <a:ext cx="0" cy="360360"/>
          </a:xfrm>
          <a:prstGeom prst="line">
            <a:avLst/>
          </a:prstGeom>
          <a:ln w="9360">
            <a:solidFill>
              <a:srgbClr val="0a34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Dikdörtgen 11"/>
          <p:cNvSpPr/>
          <p:nvPr/>
        </p:nvSpPr>
        <p:spPr>
          <a:xfrm>
            <a:off x="0" y="268200"/>
            <a:ext cx="503280" cy="287280"/>
          </a:xfrm>
          <a:custGeom>
            <a:avLst/>
            <a:gdLst/>
            <a:ahLst/>
            <a:rect l="l" t="t" r="r" b="b"/>
            <a:pathLst>
              <a:path w="504000" h="286644">
                <a:moveTo>
                  <a:pt x="0" y="0"/>
                </a:moveTo>
                <a:lnTo>
                  <a:pt x="504000" y="64294"/>
                </a:lnTo>
                <a:lnTo>
                  <a:pt x="361125" y="286644"/>
                </a:lnTo>
                <a:lnTo>
                  <a:pt x="0" y="280294"/>
                </a:lnTo>
                <a:lnTo>
                  <a:pt x="0" y="0"/>
                </a:lnTo>
                <a:close/>
              </a:path>
            </a:pathLst>
          </a:custGeom>
          <a:solidFill>
            <a:srgbClr val="f04e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Resim Yer Tutucusu 13" descr=""/>
          <p:cNvPicPr/>
          <p:nvPr/>
        </p:nvPicPr>
        <p:blipFill>
          <a:blip r:embed="rId3"/>
          <a:stretch/>
        </p:blipFill>
        <p:spPr>
          <a:xfrm>
            <a:off x="7164360" y="6129360"/>
            <a:ext cx="1593720" cy="5396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04e22"/>
                </a:solidFill>
                <a:latin typeface="Aleo"/>
              </a:rPr>
              <a:t>Click to edit the title text format</a:t>
            </a: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2"/>
          </p:nvPr>
        </p:nvSpPr>
        <p:spPr>
          <a:xfrm>
            <a:off x="883800" y="6416280"/>
            <a:ext cx="213372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a3437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DF65-3D9A-4132-AAF3-8E18CE013CEB}" type="datetime3">
              <a:rPr b="0" lang="en-US" sz="1200" spc="-1" strike="noStrike">
                <a:solidFill>
                  <a:srgbClr val="0a3437"/>
                </a:solidFill>
                <a:latin typeface="Myriad Pro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3"/>
          </p:nvPr>
        </p:nvSpPr>
        <p:spPr>
          <a:xfrm>
            <a:off x="884160" y="62053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a3437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a3437"/>
                </a:solidFill>
                <a:latin typeface="Myriad Pro"/>
              </a:rPr>
              <a:t>@sylvainpe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4"/>
          </p:nvPr>
        </p:nvSpPr>
        <p:spPr>
          <a:xfrm>
            <a:off x="250920" y="6159240"/>
            <a:ext cx="62208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a3437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F40B-53BB-49D5-B354-2BA61FB9D323}" type="slidenum">
              <a:rPr b="1" lang="en-US" sz="2800" spc="-1" strike="noStrike">
                <a:solidFill>
                  <a:srgbClr val="0a3437"/>
                </a:solidFill>
                <a:latin typeface="Myriad Pro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Düz Bağlayıcı 6"/>
          <p:cNvSpPr/>
          <p:nvPr/>
        </p:nvSpPr>
        <p:spPr>
          <a:xfrm>
            <a:off x="900000" y="6205680"/>
            <a:ext cx="0" cy="360360"/>
          </a:xfrm>
          <a:prstGeom prst="line">
            <a:avLst/>
          </a:prstGeom>
          <a:ln w="9360">
            <a:solidFill>
              <a:srgbClr val="0a34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Dikdörtgen 11"/>
          <p:cNvSpPr/>
          <p:nvPr/>
        </p:nvSpPr>
        <p:spPr>
          <a:xfrm>
            <a:off x="0" y="268200"/>
            <a:ext cx="503280" cy="287280"/>
          </a:xfrm>
          <a:custGeom>
            <a:avLst/>
            <a:gdLst/>
            <a:ahLst/>
            <a:rect l="l" t="t" r="r" b="b"/>
            <a:pathLst>
              <a:path w="504000" h="286644">
                <a:moveTo>
                  <a:pt x="0" y="0"/>
                </a:moveTo>
                <a:lnTo>
                  <a:pt x="504000" y="64294"/>
                </a:lnTo>
                <a:lnTo>
                  <a:pt x="361125" y="286644"/>
                </a:lnTo>
                <a:lnTo>
                  <a:pt x="0" y="280294"/>
                </a:lnTo>
                <a:lnTo>
                  <a:pt x="0" y="0"/>
                </a:lnTo>
                <a:close/>
              </a:path>
            </a:pathLst>
          </a:custGeom>
          <a:solidFill>
            <a:srgbClr val="f04e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Resim Yer Tutucusu 13" descr=""/>
          <p:cNvPicPr/>
          <p:nvPr/>
        </p:nvPicPr>
        <p:blipFill>
          <a:blip r:embed="rId3"/>
          <a:stretch/>
        </p:blipFill>
        <p:spPr>
          <a:xfrm>
            <a:off x="7164360" y="6129360"/>
            <a:ext cx="1593720" cy="5396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04e22"/>
                </a:solidFill>
                <a:latin typeface="Aleo"/>
              </a:rPr>
              <a:t>Click to edit the title text format</a:t>
            </a: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5"/>
          </p:nvPr>
        </p:nvSpPr>
        <p:spPr>
          <a:xfrm>
            <a:off x="883800" y="6416280"/>
            <a:ext cx="213372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a3437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616B-68EB-47E9-9FE6-9C699E0023F7}" type="datetime3">
              <a:rPr b="0" lang="en-US" sz="1200" spc="-1" strike="noStrike">
                <a:solidFill>
                  <a:srgbClr val="0a3437"/>
                </a:solidFill>
                <a:latin typeface="Myriad Pro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6"/>
          </p:nvPr>
        </p:nvSpPr>
        <p:spPr>
          <a:xfrm>
            <a:off x="884160" y="62053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a3437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a3437"/>
                </a:solidFill>
                <a:latin typeface="Myriad Pro"/>
              </a:rPr>
              <a:t>@sylvainpe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7"/>
          </p:nvPr>
        </p:nvSpPr>
        <p:spPr>
          <a:xfrm>
            <a:off x="250920" y="6159240"/>
            <a:ext cx="62208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a3437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44ED-A4BC-422A-BB6A-4BA0AA69E394}" type="slidenum">
              <a:rPr b="1" lang="en-US" sz="2800" spc="-1" strike="noStrike">
                <a:solidFill>
                  <a:srgbClr val="0a3437"/>
                </a:solidFill>
                <a:latin typeface="Myriad Pro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üz Bağlayıcı 6"/>
          <p:cNvSpPr/>
          <p:nvPr/>
        </p:nvSpPr>
        <p:spPr>
          <a:xfrm>
            <a:off x="900000" y="6205680"/>
            <a:ext cx="0" cy="360360"/>
          </a:xfrm>
          <a:prstGeom prst="line">
            <a:avLst/>
          </a:prstGeom>
          <a:ln w="9360">
            <a:solidFill>
              <a:srgbClr val="0a34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6" name="Resim Yer Tutucusu 13" descr=""/>
          <p:cNvPicPr/>
          <p:nvPr/>
        </p:nvPicPr>
        <p:blipFill>
          <a:blip r:embed="rId3"/>
          <a:stretch/>
        </p:blipFill>
        <p:spPr>
          <a:xfrm>
            <a:off x="7164360" y="6129360"/>
            <a:ext cx="1593720" cy="539640"/>
          </a:xfrm>
          <a:prstGeom prst="rect">
            <a:avLst/>
          </a:prstGeom>
          <a:ln w="0">
            <a:noFill/>
          </a:ln>
        </p:spPr>
      </p:pic>
      <p:sp>
        <p:nvSpPr>
          <p:cNvPr id="297" name="Dikdörtgen 11"/>
          <p:cNvSpPr/>
          <p:nvPr/>
        </p:nvSpPr>
        <p:spPr>
          <a:xfrm>
            <a:off x="0" y="268200"/>
            <a:ext cx="503280" cy="287280"/>
          </a:xfrm>
          <a:custGeom>
            <a:avLst/>
            <a:gdLst/>
            <a:ahLst/>
            <a:rect l="l" t="t" r="r" b="b"/>
            <a:pathLst>
              <a:path w="504000" h="286644">
                <a:moveTo>
                  <a:pt x="0" y="0"/>
                </a:moveTo>
                <a:lnTo>
                  <a:pt x="504000" y="64294"/>
                </a:lnTo>
                <a:lnTo>
                  <a:pt x="361125" y="286644"/>
                </a:lnTo>
                <a:lnTo>
                  <a:pt x="0" y="280294"/>
                </a:lnTo>
                <a:lnTo>
                  <a:pt x="0" y="0"/>
                </a:lnTo>
                <a:close/>
              </a:path>
            </a:pathLst>
          </a:custGeom>
          <a:solidFill>
            <a:srgbClr val="f04e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04e22"/>
                </a:solidFill>
                <a:latin typeface="Aleo"/>
              </a:rPr>
              <a:t>Click to edit the title text format</a:t>
            </a: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8"/>
          </p:nvPr>
        </p:nvSpPr>
        <p:spPr>
          <a:xfrm>
            <a:off x="883800" y="6416280"/>
            <a:ext cx="213372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a3437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43EF-E929-4D5B-9C77-96775BDA7A3A}" type="datetime3">
              <a:rPr b="0" lang="en-US" sz="1200" spc="-1" strike="noStrike">
                <a:solidFill>
                  <a:srgbClr val="0a3437"/>
                </a:solidFill>
                <a:latin typeface="Myriad Pro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9"/>
          </p:nvPr>
        </p:nvSpPr>
        <p:spPr>
          <a:xfrm>
            <a:off x="884160" y="62053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a3437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a3437"/>
                </a:solidFill>
                <a:latin typeface="Myriad Pro"/>
              </a:rPr>
              <a:t>@sylvainpe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0"/>
          </p:nvPr>
        </p:nvSpPr>
        <p:spPr>
          <a:xfrm>
            <a:off x="250920" y="6159240"/>
            <a:ext cx="62208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a3437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6F82-243E-4660-8693-B47D844E4919}" type="slidenum">
              <a:rPr b="1" lang="en-US" sz="2800" spc="-1" strike="noStrike">
                <a:solidFill>
                  <a:srgbClr val="0a3437"/>
                </a:solidFill>
                <a:latin typeface="Myriad Pro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üz Bağlayıcı 6"/>
          <p:cNvSpPr/>
          <p:nvPr/>
        </p:nvSpPr>
        <p:spPr>
          <a:xfrm>
            <a:off x="900000" y="6205680"/>
            <a:ext cx="0" cy="360360"/>
          </a:xfrm>
          <a:prstGeom prst="line">
            <a:avLst/>
          </a:prstGeom>
          <a:ln w="9360">
            <a:solidFill>
              <a:srgbClr val="0a34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0" name="Resim Yer Tutucusu 13" descr=""/>
          <p:cNvPicPr/>
          <p:nvPr/>
        </p:nvPicPr>
        <p:blipFill>
          <a:blip r:embed="rId3"/>
          <a:stretch/>
        </p:blipFill>
        <p:spPr>
          <a:xfrm>
            <a:off x="7164360" y="6129360"/>
            <a:ext cx="1593720" cy="539640"/>
          </a:xfrm>
          <a:prstGeom prst="rect">
            <a:avLst/>
          </a:prstGeom>
          <a:ln w="0">
            <a:noFill/>
          </a:ln>
        </p:spPr>
      </p:pic>
      <p:sp>
        <p:nvSpPr>
          <p:cNvPr id="341" name="Dikdörtgen 11"/>
          <p:cNvSpPr/>
          <p:nvPr/>
        </p:nvSpPr>
        <p:spPr>
          <a:xfrm>
            <a:off x="0" y="268200"/>
            <a:ext cx="503280" cy="287280"/>
          </a:xfrm>
          <a:custGeom>
            <a:avLst/>
            <a:gdLst/>
            <a:ahLst/>
            <a:rect l="l" t="t" r="r" b="b"/>
            <a:pathLst>
              <a:path w="504000" h="286644">
                <a:moveTo>
                  <a:pt x="0" y="0"/>
                </a:moveTo>
                <a:lnTo>
                  <a:pt x="504000" y="64294"/>
                </a:lnTo>
                <a:lnTo>
                  <a:pt x="361125" y="286644"/>
                </a:lnTo>
                <a:lnTo>
                  <a:pt x="0" y="280294"/>
                </a:lnTo>
                <a:lnTo>
                  <a:pt x="0" y="0"/>
                </a:lnTo>
                <a:close/>
              </a:path>
            </a:pathLst>
          </a:custGeom>
          <a:solidFill>
            <a:srgbClr val="f04e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04e22"/>
                </a:solidFill>
                <a:latin typeface="Aleo"/>
              </a:rPr>
              <a:t>Click to edit the title text format</a:t>
            </a:r>
            <a:endParaRPr b="1" lang="en-US" sz="44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1"/>
          </p:nvPr>
        </p:nvSpPr>
        <p:spPr>
          <a:xfrm>
            <a:off x="883800" y="6416280"/>
            <a:ext cx="213372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a3437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40A9-1F5B-41CC-B7B6-67C9D143B293}" type="datetime3">
              <a:rPr b="0" lang="en-US" sz="1200" spc="-1" strike="noStrike">
                <a:solidFill>
                  <a:srgbClr val="0a3437"/>
                </a:solidFill>
                <a:latin typeface="Myriad Pro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2"/>
          </p:nvPr>
        </p:nvSpPr>
        <p:spPr>
          <a:xfrm>
            <a:off x="884160" y="62053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a3437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a3437"/>
                </a:solidFill>
                <a:latin typeface="Myriad Pro"/>
              </a:rPr>
              <a:t>@sylvainpe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3"/>
          </p:nvPr>
        </p:nvSpPr>
        <p:spPr>
          <a:xfrm>
            <a:off x="250920" y="6159240"/>
            <a:ext cx="62208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a3437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A544-1B11-4127-9512-078170BF6F0D}" type="slidenum">
              <a:rPr b="1" lang="en-US" sz="2800" spc="-1" strike="noStrike">
                <a:solidFill>
                  <a:srgbClr val="0a3437"/>
                </a:solidFill>
                <a:latin typeface="Myriad Pro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201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leo"/>
              </a:rPr>
              <a:t>Big Data 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Aleo"/>
              </a:rPr>
              <a:t>Due Process</a:t>
            </a:r>
            <a:endParaRPr b="1" lang="en-US" sz="60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684360" y="3716280"/>
            <a:ext cx="77752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Myriad Pro"/>
              </a:rPr>
              <a:t>TOWARD  A FRAMEWORK TO REDRESS </a:t>
            </a:r>
            <a:endParaRPr b="0" lang="en-US" sz="2200" spc="-1" strike="noStrike">
              <a:solidFill>
                <a:srgbClr val="000000"/>
              </a:solidFill>
              <a:latin typeface="Myriad Pro"/>
            </a:endParaRPr>
          </a:p>
          <a:p>
            <a:pPr indent="0">
              <a:lnSpc>
                <a:spcPts val="22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Myriad Pro"/>
              </a:rPr>
              <a:t>PREDICTIVE PRIVACY HARMS</a:t>
            </a:r>
            <a:endParaRPr b="0" lang="en-US" sz="2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15" name="Veri Yer Tutucusu 3"/>
          <p:cNvSpPr/>
          <p:nvPr/>
        </p:nvSpPr>
        <p:spPr>
          <a:xfrm>
            <a:off x="222264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F53B-4B3A-44A1-AD67-53CBF1E72678}" type="datetime3">
              <a:rPr b="0" lang="en-US" sz="1500" spc="-1" strike="noStrike">
                <a:solidFill>
                  <a:srgbClr val="0d0d0d"/>
                </a:solidFill>
                <a:latin typeface="Myriad Pro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Altbilgi Yer Tutucusu 4"/>
          <p:cNvSpPr/>
          <p:nvPr/>
        </p:nvSpPr>
        <p:spPr>
          <a:xfrm>
            <a:off x="684360" y="6308640"/>
            <a:ext cx="158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8f2da"/>
                </a:solidFill>
                <a:latin typeface="Myriad Pro"/>
              </a:rPr>
              <a:t>@sylvainperri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Resim Yer Tutucusu 8" descr=""/>
          <p:cNvPicPr/>
          <p:nvPr/>
        </p:nvPicPr>
        <p:blipFill>
          <a:blip r:embed="rId1"/>
          <a:stretch/>
        </p:blipFill>
        <p:spPr>
          <a:xfrm>
            <a:off x="6443640" y="5805360"/>
            <a:ext cx="2394000" cy="744840"/>
          </a:xfrm>
          <a:prstGeom prst="rect">
            <a:avLst/>
          </a:prstGeom>
          <a:ln w="0">
            <a:noFill/>
          </a:ln>
        </p:spPr>
      </p:pic>
      <p:sp>
        <p:nvSpPr>
          <p:cNvPr id="518" name="Metin kutusu 9"/>
          <p:cNvSpPr/>
          <p:nvPr/>
        </p:nvSpPr>
        <p:spPr>
          <a:xfrm>
            <a:off x="2049840" y="6313320"/>
            <a:ext cx="2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Myriad Pro"/>
                <a:ea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2679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04e22"/>
                </a:solidFill>
                <a:latin typeface="Aleo"/>
              </a:rPr>
              <a:t>Agenda</a:t>
            </a:r>
            <a:endParaRPr b="1" lang="en-US" sz="60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6840" y="2276640"/>
            <a:ext cx="577044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6560" indent="-466560">
              <a:spcBef>
                <a:spcPts val="601"/>
              </a:spcBef>
              <a:spcAft>
                <a:spcPts val="1199"/>
              </a:spcAft>
              <a:buClr>
                <a:srgbClr val="f04e22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yriad Pro"/>
              </a:rPr>
              <a:t>Pellentesque et sem tempor, dictum velit nec, dictum sem.</a:t>
            </a:r>
            <a:endParaRPr b="0" lang="en-US" sz="2200" spc="-1" strike="noStrike">
              <a:solidFill>
                <a:srgbClr val="000000"/>
              </a:solidFill>
              <a:latin typeface="Myriad Pro"/>
            </a:endParaRPr>
          </a:p>
          <a:p>
            <a:pPr marL="466560" indent="-466560">
              <a:spcBef>
                <a:spcPts val="601"/>
              </a:spcBef>
              <a:spcAft>
                <a:spcPts val="1199"/>
              </a:spcAft>
              <a:buClr>
                <a:srgbClr val="f04e22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yriad Pro"/>
              </a:rPr>
              <a:t>Mauris lacinia lectus ut tincidunt suscipit.</a:t>
            </a:r>
            <a:endParaRPr b="0" lang="en-US" sz="2200" spc="-1" strike="noStrike">
              <a:solidFill>
                <a:srgbClr val="000000"/>
              </a:solidFill>
              <a:latin typeface="Myriad Pro"/>
            </a:endParaRPr>
          </a:p>
          <a:p>
            <a:pPr marL="466560" indent="-466560">
              <a:spcBef>
                <a:spcPts val="601"/>
              </a:spcBef>
              <a:spcAft>
                <a:spcPts val="1199"/>
              </a:spcAft>
              <a:buClr>
                <a:srgbClr val="f04e22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yriad Pro"/>
              </a:rPr>
              <a:t>Proin luctus nibh sit amet adipiscing euismod.</a:t>
            </a:r>
            <a:endParaRPr b="0" lang="en-US" sz="2200" spc="-1" strike="noStrike">
              <a:solidFill>
                <a:srgbClr val="000000"/>
              </a:solidFill>
              <a:latin typeface="Myriad Pro"/>
            </a:endParaRPr>
          </a:p>
          <a:p>
            <a:pPr marL="466560" indent="-466560">
              <a:spcBef>
                <a:spcPts val="601"/>
              </a:spcBef>
              <a:spcAft>
                <a:spcPts val="1199"/>
              </a:spcAft>
              <a:buClr>
                <a:srgbClr val="f04e22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yriad Pro"/>
              </a:rPr>
              <a:t>Curabitur at turpis semper, blandit magna vel, malesuada ligula.</a:t>
            </a:r>
            <a:endParaRPr b="0" lang="en-US" sz="2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21" name="Veri Yer Tutucusu 3"/>
          <p:cNvSpPr/>
          <p:nvPr/>
        </p:nvSpPr>
        <p:spPr>
          <a:xfrm>
            <a:off x="884160" y="6416640"/>
            <a:ext cx="2133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C949-758D-492C-AF4F-E91D072B37F3}" type="datetime3">
              <a:rPr b="0" lang="en-US" sz="1200" spc="-1" strike="noStrike">
                <a:solidFill>
                  <a:srgbClr val="0a3437"/>
                </a:solidFill>
                <a:latin typeface="Myriad Pro"/>
                <a:ea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Altbilgi Yer Tutucusu 4"/>
          <p:cNvSpPr/>
          <p:nvPr/>
        </p:nvSpPr>
        <p:spPr>
          <a:xfrm>
            <a:off x="884160" y="6207120"/>
            <a:ext cx="28958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a3437"/>
                </a:solidFill>
                <a:latin typeface="Myriad Pro"/>
                <a:ea typeface="Arial"/>
              </a:rPr>
              <a:t>@sylvainperr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ayt Numarası Yer Tutucusu 5"/>
          <p:cNvSpPr/>
          <p:nvPr/>
        </p:nvSpPr>
        <p:spPr>
          <a:xfrm>
            <a:off x="250920" y="6159600"/>
            <a:ext cx="622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032D-98B5-4267-B095-3333F5E86F85}" type="slidenum">
              <a:rPr b="1" lang="en-US" sz="2800" spc="-1" strike="noStrike">
                <a:solidFill>
                  <a:srgbClr val="0a3437"/>
                </a:solidFill>
                <a:latin typeface="Myriad Pro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68000" y="333360"/>
            <a:ext cx="5543640" cy="2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500" spc="-1" strike="noStrike">
                <a:solidFill>
                  <a:srgbClr val="5f5f5f"/>
                </a:solidFill>
                <a:latin typeface="Myriad Pro"/>
              </a:rPr>
              <a:t>BIG DATA &amp; DUE PROCESS</a:t>
            </a:r>
            <a:endParaRPr b="0" lang="en-US" sz="15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Dikdörtgen 29"/>
          <p:cNvSpPr/>
          <p:nvPr/>
        </p:nvSpPr>
        <p:spPr>
          <a:xfrm>
            <a:off x="577800" y="1413000"/>
            <a:ext cx="802656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Düz Bağlayıcı 30"/>
          <p:cNvSpPr/>
          <p:nvPr/>
        </p:nvSpPr>
        <p:spPr>
          <a:xfrm>
            <a:off x="577800" y="1413000"/>
            <a:ext cx="8028000" cy="0"/>
          </a:xfrm>
          <a:prstGeom prst="line">
            <a:avLst/>
          </a:prstGeom>
          <a:ln w="14760">
            <a:solidFill>
              <a:srgbClr val="9a9b9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04e22"/>
                </a:solidFill>
                <a:latin typeface="Aleo"/>
              </a:rPr>
              <a:t>Business Intelligence: Lorem Ipsum simply</a:t>
            </a:r>
            <a:endParaRPr b="1" lang="en-US" sz="30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528" name="Veri Yer Tutucusu 3"/>
          <p:cNvSpPr/>
          <p:nvPr/>
        </p:nvSpPr>
        <p:spPr>
          <a:xfrm>
            <a:off x="884160" y="6416640"/>
            <a:ext cx="2133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6A00-BF16-4E95-9007-FCCA7C0DF4C3}" type="datetime3">
              <a:rPr b="0" lang="en-US" sz="1200" spc="-1" strike="noStrike">
                <a:solidFill>
                  <a:srgbClr val="0a3437"/>
                </a:solidFill>
                <a:latin typeface="Myriad Pro"/>
                <a:ea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Altbilgi Yer Tutucusu 4"/>
          <p:cNvSpPr/>
          <p:nvPr/>
        </p:nvSpPr>
        <p:spPr>
          <a:xfrm>
            <a:off x="884160" y="6207120"/>
            <a:ext cx="28958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a3437"/>
                </a:solidFill>
                <a:latin typeface="Myriad Pro"/>
                <a:ea typeface="Arial"/>
              </a:rPr>
              <a:t>@sylvainperr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ayt Numarası Yer Tutucusu 5"/>
          <p:cNvSpPr/>
          <p:nvPr/>
        </p:nvSpPr>
        <p:spPr>
          <a:xfrm>
            <a:off x="250920" y="6159600"/>
            <a:ext cx="622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ECD6-EE70-4A7E-B0B2-2C4AABE72C27}" type="slidenum">
              <a:rPr b="1" lang="en-US" sz="2800" spc="-1" strike="noStrike">
                <a:solidFill>
                  <a:srgbClr val="0a3437"/>
                </a:solidFill>
                <a:latin typeface="Myriad Pro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68000" y="333360"/>
            <a:ext cx="5543640" cy="2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Myriad Pro"/>
              </a:rPr>
              <a:t>BIG DATA &amp; DUE PROCESS</a:t>
            </a:r>
            <a:endParaRPr b="0" lang="en-US" sz="1500" spc="-1" strike="noStrike">
              <a:solidFill>
                <a:srgbClr val="000000"/>
              </a:solidFill>
              <a:latin typeface="Myriad Pro"/>
            </a:endParaRPr>
          </a:p>
        </p:txBody>
      </p:sp>
      <p:pic>
        <p:nvPicPr>
          <p:cNvPr id="532" name="Resim 1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2754360" cy="2417760"/>
          </a:xfrm>
          <a:prstGeom prst="rect">
            <a:avLst/>
          </a:prstGeom>
          <a:ln w="0">
            <a:noFill/>
          </a:ln>
        </p:spPr>
      </p:pic>
      <p:pic>
        <p:nvPicPr>
          <p:cNvPr id="533" name="Resim 2" descr=""/>
          <p:cNvPicPr/>
          <p:nvPr/>
        </p:nvPicPr>
        <p:blipFill>
          <a:blip r:embed="rId2"/>
          <a:stretch/>
        </p:blipFill>
        <p:spPr>
          <a:xfrm>
            <a:off x="5219640" y="1946160"/>
            <a:ext cx="2754360" cy="3618000"/>
          </a:xfrm>
          <a:prstGeom prst="rect">
            <a:avLst/>
          </a:prstGeom>
          <a:ln w="0">
            <a:noFill/>
          </a:ln>
        </p:spPr>
      </p:pic>
      <p:sp>
        <p:nvSpPr>
          <p:cNvPr id="534" name="Metin kutusu 3"/>
          <p:cNvSpPr/>
          <p:nvPr/>
        </p:nvSpPr>
        <p:spPr>
          <a:xfrm>
            <a:off x="1038960" y="1700280"/>
            <a:ext cx="6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88c96"/>
                </a:solidFill>
                <a:latin typeface="Myriad Pro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Düz Bağlayıcı 5"/>
          <p:cNvSpPr/>
          <p:nvPr/>
        </p:nvSpPr>
        <p:spPr>
          <a:xfrm>
            <a:off x="1042920" y="2060640"/>
            <a:ext cx="2754360" cy="0"/>
          </a:xfrm>
          <a:prstGeom prst="line">
            <a:avLst/>
          </a:prstGeom>
          <a:ln w="19080">
            <a:solidFill>
              <a:srgbClr val="18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Metin kutusu 15"/>
          <p:cNvSpPr/>
          <p:nvPr/>
        </p:nvSpPr>
        <p:spPr>
          <a:xfrm>
            <a:off x="5221080" y="1700280"/>
            <a:ext cx="6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88c96"/>
                </a:solidFill>
                <a:latin typeface="Myriad Pro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Düz Bağlayıcı 16"/>
          <p:cNvSpPr/>
          <p:nvPr/>
        </p:nvSpPr>
        <p:spPr>
          <a:xfrm>
            <a:off x="5226120" y="2060640"/>
            <a:ext cx="2754360" cy="0"/>
          </a:xfrm>
          <a:prstGeom prst="line">
            <a:avLst/>
          </a:prstGeom>
          <a:ln w="19080">
            <a:solidFill>
              <a:srgbClr val="18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Metin kutusu 6"/>
          <p:cNvSpPr/>
          <p:nvPr/>
        </p:nvSpPr>
        <p:spPr>
          <a:xfrm>
            <a:off x="1158840" y="4778280"/>
            <a:ext cx="28083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Myriad Pro"/>
              </a:rPr>
              <a:t>The number of Lorem Ipsum is simply dummy text of the </a:t>
            </a:r>
            <a:r>
              <a:rPr b="1" lang="en-US" sz="1500" spc="-1" strike="noStrike">
                <a:solidFill>
                  <a:srgbClr val="f04e22"/>
                </a:solidFill>
                <a:latin typeface="Myriad Pro"/>
              </a:rPr>
              <a:t>80%</a:t>
            </a:r>
            <a:r>
              <a:rPr b="0" lang="en-US" sz="1500" spc="-1" strike="noStrike">
                <a:solidFill>
                  <a:srgbClr val="000000"/>
                </a:solidFill>
                <a:latin typeface="Myriad Pro"/>
              </a:rPr>
              <a:t> printing and typesetting industry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Dikdörtgen 29"/>
          <p:cNvSpPr/>
          <p:nvPr/>
        </p:nvSpPr>
        <p:spPr>
          <a:xfrm>
            <a:off x="577800" y="2060640"/>
            <a:ext cx="8026560" cy="38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Düz Bağlayıcı 30"/>
          <p:cNvSpPr/>
          <p:nvPr/>
        </p:nvSpPr>
        <p:spPr>
          <a:xfrm>
            <a:off x="577800" y="2060640"/>
            <a:ext cx="8028000" cy="0"/>
          </a:xfrm>
          <a:prstGeom prst="line">
            <a:avLst/>
          </a:prstGeom>
          <a:ln w="14760">
            <a:solidFill>
              <a:srgbClr val="9a9b9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04e22"/>
                </a:solidFill>
                <a:latin typeface="Aleo"/>
              </a:rPr>
              <a:t>Executive Summary</a:t>
            </a:r>
            <a:endParaRPr b="1" lang="en-US" sz="30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542" name="Veri Yer Tutucusu 3"/>
          <p:cNvSpPr/>
          <p:nvPr/>
        </p:nvSpPr>
        <p:spPr>
          <a:xfrm>
            <a:off x="884160" y="6416640"/>
            <a:ext cx="2133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98E6-03FB-4796-A8F2-82F7DB2BDDB8}" type="datetime3">
              <a:rPr b="0" lang="en-US" sz="1200" spc="-1" strike="noStrike">
                <a:solidFill>
                  <a:srgbClr val="0a3437"/>
                </a:solidFill>
                <a:latin typeface="Myriad Pro"/>
                <a:ea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Altbilgi Yer Tutucusu 4"/>
          <p:cNvSpPr/>
          <p:nvPr/>
        </p:nvSpPr>
        <p:spPr>
          <a:xfrm>
            <a:off x="884160" y="6207120"/>
            <a:ext cx="28958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a3437"/>
                </a:solidFill>
                <a:latin typeface="Myriad Pro"/>
                <a:ea typeface="Arial"/>
              </a:rPr>
              <a:t>@sylvainperr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ayt Numarası Yer Tutucusu 5"/>
          <p:cNvSpPr/>
          <p:nvPr/>
        </p:nvSpPr>
        <p:spPr>
          <a:xfrm>
            <a:off x="250920" y="6159600"/>
            <a:ext cx="622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29CB-C4DF-4BA9-8D61-73BF3279BDC0}" type="slidenum">
              <a:rPr b="1" lang="en-US" sz="2800" spc="-1" strike="noStrike">
                <a:solidFill>
                  <a:srgbClr val="0a3437"/>
                </a:solidFill>
                <a:latin typeface="Myriad Pro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68000" y="333360"/>
            <a:ext cx="5543640" cy="2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Myriad Pro"/>
              </a:rPr>
              <a:t>BIG DATA &amp; DUE PROCESS</a:t>
            </a:r>
            <a:endParaRPr b="0" lang="en-US" sz="15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46" name="Metin kutusu 28"/>
          <p:cNvSpPr/>
          <p:nvPr/>
        </p:nvSpPr>
        <p:spPr>
          <a:xfrm>
            <a:off x="577800" y="1270080"/>
            <a:ext cx="80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  <a:ea typeface="Arial"/>
              </a:rPr>
              <a:t>The number of Lorem Ipsum is simply dummy text of the </a:t>
            </a:r>
            <a:r>
              <a:rPr b="1" lang="en-US" sz="1800" spc="-1" strike="noStrike">
                <a:solidFill>
                  <a:srgbClr val="f04e22"/>
                </a:solidFill>
                <a:latin typeface="Myriad Pro"/>
                <a:ea typeface="Arial"/>
              </a:rPr>
              <a:t>80%</a:t>
            </a:r>
            <a:r>
              <a:rPr b="0" lang="en-US" sz="1800" spc="-1" strike="noStrike">
                <a:solidFill>
                  <a:srgbClr val="000000"/>
                </a:solidFill>
                <a:latin typeface="Myriad Pro"/>
                <a:ea typeface="Arial"/>
              </a:rPr>
              <a:t> printing and typesetting industry. Lorem Ipsum </a:t>
            </a:r>
            <a:r>
              <a:rPr b="1" lang="en-US" sz="1800" spc="-1" strike="noStrike">
                <a:solidFill>
                  <a:srgbClr val="188d96"/>
                </a:solidFill>
                <a:latin typeface="Myriad Pro"/>
                <a:ea typeface="Arial"/>
              </a:rPr>
              <a:t>167</a:t>
            </a:r>
            <a:r>
              <a:rPr b="0" lang="en-US" sz="1800" spc="-1" strike="noStrike">
                <a:solidFill>
                  <a:srgbClr val="000000"/>
                </a:solidFill>
                <a:latin typeface="Myriad Pro"/>
                <a:ea typeface="Arial"/>
              </a:rPr>
              <a:t> is simply dummy text of the printing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Grafik 31" descr=""/>
          <p:cNvPicPr/>
          <p:nvPr/>
        </p:nvPicPr>
        <p:blipFill>
          <a:blip r:embed="rId1"/>
          <a:stretch/>
        </p:blipFill>
        <p:spPr>
          <a:xfrm>
            <a:off x="633240" y="2225520"/>
            <a:ext cx="7950240" cy="3630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Dikdörtgen 29"/>
          <p:cNvSpPr/>
          <p:nvPr/>
        </p:nvSpPr>
        <p:spPr>
          <a:xfrm>
            <a:off x="577800" y="2060640"/>
            <a:ext cx="8026560" cy="38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Düz Bağlayıcı 30"/>
          <p:cNvSpPr/>
          <p:nvPr/>
        </p:nvSpPr>
        <p:spPr>
          <a:xfrm>
            <a:off x="577800" y="2060640"/>
            <a:ext cx="8028000" cy="0"/>
          </a:xfrm>
          <a:prstGeom prst="line">
            <a:avLst/>
          </a:prstGeom>
          <a:ln w="14760">
            <a:solidFill>
              <a:srgbClr val="9a9b9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04e22"/>
                </a:solidFill>
                <a:latin typeface="Aleo"/>
              </a:rPr>
              <a:t>Morbi nec elit aliquet, rutrum nibh quis</a:t>
            </a:r>
            <a:endParaRPr b="1" lang="en-US" sz="30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551" name="Veri Yer Tutucusu 3"/>
          <p:cNvSpPr/>
          <p:nvPr/>
        </p:nvSpPr>
        <p:spPr>
          <a:xfrm>
            <a:off x="884160" y="6416640"/>
            <a:ext cx="2133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AF9B-7248-4732-B5A9-F5630CA3982A}" type="datetime3">
              <a:rPr b="0" lang="en-US" sz="1200" spc="-1" strike="noStrike">
                <a:solidFill>
                  <a:srgbClr val="0a3437"/>
                </a:solidFill>
                <a:latin typeface="Myriad Pro"/>
                <a:ea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Altbilgi Yer Tutucusu 4"/>
          <p:cNvSpPr/>
          <p:nvPr/>
        </p:nvSpPr>
        <p:spPr>
          <a:xfrm>
            <a:off x="884160" y="6207120"/>
            <a:ext cx="28958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a3437"/>
                </a:solidFill>
                <a:latin typeface="Myriad Pro"/>
                <a:ea typeface="Arial"/>
              </a:rPr>
              <a:t>@sylvainperr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ayt Numarası Yer Tutucusu 5"/>
          <p:cNvSpPr/>
          <p:nvPr/>
        </p:nvSpPr>
        <p:spPr>
          <a:xfrm>
            <a:off x="250920" y="6159600"/>
            <a:ext cx="622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EDA0-BEC5-4DDA-BEDC-E437B64206EA}" type="slidenum">
              <a:rPr b="1" lang="en-US" sz="2800" spc="-1" strike="noStrike">
                <a:solidFill>
                  <a:srgbClr val="0a3437"/>
                </a:solidFill>
                <a:latin typeface="Myriad Pro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68000" y="333360"/>
            <a:ext cx="5543640" cy="2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Myriad Pro"/>
              </a:rPr>
              <a:t>BIG DATA &amp; DUE PROCESS</a:t>
            </a:r>
            <a:endParaRPr b="0" lang="en-US" sz="15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55" name="Metin kutusu 28"/>
          <p:cNvSpPr/>
          <p:nvPr/>
        </p:nvSpPr>
        <p:spPr>
          <a:xfrm>
            <a:off x="577800" y="1270080"/>
            <a:ext cx="80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  <a:ea typeface="Arial"/>
              </a:rPr>
              <a:t>The number of Lorem Ipsum is simply dummy text of the </a:t>
            </a:r>
            <a:r>
              <a:rPr b="1" lang="en-US" sz="1800" spc="-1" strike="noStrike">
                <a:solidFill>
                  <a:srgbClr val="f04e22"/>
                </a:solidFill>
                <a:latin typeface="Myriad Pro"/>
                <a:ea typeface="Arial"/>
              </a:rPr>
              <a:t>80%</a:t>
            </a:r>
            <a:r>
              <a:rPr b="0" lang="en-US" sz="1800" spc="-1" strike="noStrike">
                <a:solidFill>
                  <a:srgbClr val="000000"/>
                </a:solidFill>
                <a:latin typeface="Myriad Pro"/>
                <a:ea typeface="Arial"/>
              </a:rPr>
              <a:t> printing and typesetting industry. Lorem Ipsum </a:t>
            </a:r>
            <a:r>
              <a:rPr b="1" lang="en-US" sz="1800" spc="-1" strike="noStrike">
                <a:solidFill>
                  <a:srgbClr val="188d96"/>
                </a:solidFill>
                <a:latin typeface="Myriad Pro"/>
                <a:ea typeface="Arial"/>
              </a:rPr>
              <a:t>167</a:t>
            </a:r>
            <a:r>
              <a:rPr b="0" lang="en-US" sz="1800" spc="-1" strike="noStrike">
                <a:solidFill>
                  <a:srgbClr val="000000"/>
                </a:solidFill>
                <a:latin typeface="Myriad Pro"/>
                <a:ea typeface="Arial"/>
              </a:rPr>
              <a:t> is simply dummy text of the printing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6" name="Grup 11"/>
          <p:cNvGrpSpPr/>
          <p:nvPr/>
        </p:nvGrpSpPr>
        <p:grpSpPr>
          <a:xfrm>
            <a:off x="1158840" y="2471760"/>
            <a:ext cx="6869160" cy="608040"/>
            <a:chOff x="1158840" y="2471760"/>
            <a:chExt cx="6869160" cy="608040"/>
          </a:xfrm>
        </p:grpSpPr>
        <p:sp>
          <p:nvSpPr>
            <p:cNvPr id="557" name="Dikdörtgen 2"/>
            <p:cNvSpPr/>
            <p:nvPr/>
          </p:nvSpPr>
          <p:spPr>
            <a:xfrm>
              <a:off x="6199200" y="2484360"/>
              <a:ext cx="1295280" cy="582840"/>
            </a:xfrm>
            <a:prstGeom prst="rect">
              <a:avLst/>
            </a:prstGeom>
            <a:solidFill>
              <a:srgbClr val="005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7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Myriad Pro"/>
                </a:rPr>
                <a:t>58%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8" name="Grup 10"/>
            <p:cNvGrpSpPr/>
            <p:nvPr/>
          </p:nvGrpSpPr>
          <p:grpSpPr>
            <a:xfrm>
              <a:off x="7350840" y="2471760"/>
              <a:ext cx="677160" cy="608040"/>
              <a:chOff x="7350840" y="2471760"/>
              <a:chExt cx="677160" cy="608040"/>
            </a:xfrm>
          </p:grpSpPr>
          <p:sp>
            <p:nvSpPr>
              <p:cNvPr id="559" name="Altıgen 6"/>
              <p:cNvSpPr/>
              <p:nvPr/>
            </p:nvSpPr>
            <p:spPr>
              <a:xfrm>
                <a:off x="7350840" y="2471760"/>
                <a:ext cx="677160" cy="608040"/>
              </a:xfrm>
              <a:prstGeom prst="hexagon">
                <a:avLst>
                  <a:gd name="adj" fmla="val 24985"/>
                  <a:gd name="vf" fmla="val 115470"/>
                </a:avLst>
              </a:prstGeom>
              <a:solidFill>
                <a:srgbClr val="005cab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0" name="Oval 7"/>
              <p:cNvSpPr/>
              <p:nvPr/>
            </p:nvSpPr>
            <p:spPr>
              <a:xfrm>
                <a:off x="7536240" y="2622600"/>
                <a:ext cx="306000" cy="306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61" name="Dikdörtgen 17"/>
            <p:cNvSpPr/>
            <p:nvPr/>
          </p:nvSpPr>
          <p:spPr>
            <a:xfrm>
              <a:off x="1158840" y="2484360"/>
              <a:ext cx="5065920" cy="582840"/>
            </a:xfrm>
            <a:prstGeom prst="rect">
              <a:avLst/>
            </a:prstGeom>
            <a:solidFill>
              <a:srgbClr val="005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72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Myriad Pro"/>
                </a:rPr>
                <a:t>Lorem ipsum dolor sit amet,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Myriad Pro"/>
                </a:rPr>
                <a:t>consectetur adipiscing elit.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2" name="Grup 18"/>
          <p:cNvGrpSpPr/>
          <p:nvPr/>
        </p:nvGrpSpPr>
        <p:grpSpPr>
          <a:xfrm>
            <a:off x="1158840" y="3079800"/>
            <a:ext cx="6869160" cy="608040"/>
            <a:chOff x="1158840" y="3079800"/>
            <a:chExt cx="6869160" cy="608040"/>
          </a:xfrm>
        </p:grpSpPr>
        <p:sp>
          <p:nvSpPr>
            <p:cNvPr id="563" name="Dikdörtgen 19"/>
            <p:cNvSpPr/>
            <p:nvPr/>
          </p:nvSpPr>
          <p:spPr>
            <a:xfrm>
              <a:off x="6199200" y="3092400"/>
              <a:ext cx="1295280" cy="582840"/>
            </a:xfrm>
            <a:prstGeom prst="rect">
              <a:avLst/>
            </a:prstGeom>
            <a:solidFill>
              <a:srgbClr val="00a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27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Myriad Pro"/>
                </a:rPr>
                <a:t>5</a:t>
              </a:r>
              <a:r>
                <a:rPr b="1" lang="tr-TR" sz="3000" spc="-1" strike="noStrike">
                  <a:solidFill>
                    <a:srgbClr val="ffffff"/>
                  </a:solidFill>
                  <a:latin typeface="Myriad Pro"/>
                </a:rPr>
                <a:t>7</a:t>
              </a:r>
              <a:r>
                <a:rPr b="1" lang="en-US" sz="3000" spc="-1" strike="noStrike">
                  <a:solidFill>
                    <a:srgbClr val="ffffff"/>
                  </a:solidFill>
                  <a:latin typeface="Myriad Pro"/>
                </a:rPr>
                <a:t>%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4" name="Grup 20"/>
            <p:cNvGrpSpPr/>
            <p:nvPr/>
          </p:nvGrpSpPr>
          <p:grpSpPr>
            <a:xfrm>
              <a:off x="7350840" y="3079800"/>
              <a:ext cx="677160" cy="608040"/>
              <a:chOff x="7350840" y="3079800"/>
              <a:chExt cx="677160" cy="608040"/>
            </a:xfrm>
          </p:grpSpPr>
          <p:sp>
            <p:nvSpPr>
              <p:cNvPr id="565" name="Altıgen 22"/>
              <p:cNvSpPr/>
              <p:nvPr/>
            </p:nvSpPr>
            <p:spPr>
              <a:xfrm>
                <a:off x="7350840" y="3079800"/>
                <a:ext cx="677160" cy="608040"/>
              </a:xfrm>
              <a:prstGeom prst="hexagon">
                <a:avLst>
                  <a:gd name="adj" fmla="val 24985"/>
                  <a:gd name="vf" fmla="val 115470"/>
                </a:avLst>
              </a:prstGeom>
              <a:solidFill>
                <a:srgbClr val="00aea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6" name="Oval 23"/>
              <p:cNvSpPr/>
              <p:nvPr/>
            </p:nvSpPr>
            <p:spPr>
              <a:xfrm>
                <a:off x="7536240" y="3230640"/>
                <a:ext cx="306000" cy="306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67" name="Dikdörtgen 21"/>
            <p:cNvSpPr/>
            <p:nvPr/>
          </p:nvSpPr>
          <p:spPr>
            <a:xfrm>
              <a:off x="1158840" y="3092400"/>
              <a:ext cx="5065920" cy="582840"/>
            </a:xfrm>
            <a:prstGeom prst="rect">
              <a:avLst/>
            </a:prstGeom>
            <a:solidFill>
              <a:srgbClr val="00a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54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Myriad Pro"/>
                </a:rPr>
                <a:t>Lorem ipsum dolor sit amet,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Myriad Pro"/>
                </a:rPr>
                <a:t>consectetur adipiscing elit.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8" name="Grup 24"/>
          <p:cNvGrpSpPr/>
          <p:nvPr/>
        </p:nvGrpSpPr>
        <p:grpSpPr>
          <a:xfrm>
            <a:off x="1158840" y="3692520"/>
            <a:ext cx="6869160" cy="608040"/>
            <a:chOff x="1158840" y="3692520"/>
            <a:chExt cx="6869160" cy="608040"/>
          </a:xfrm>
        </p:grpSpPr>
        <p:sp>
          <p:nvSpPr>
            <p:cNvPr id="569" name="Dikdörtgen 25"/>
            <p:cNvSpPr/>
            <p:nvPr/>
          </p:nvSpPr>
          <p:spPr>
            <a:xfrm>
              <a:off x="6199200" y="3705120"/>
              <a:ext cx="1295280" cy="582840"/>
            </a:xfrm>
            <a:prstGeom prst="rect">
              <a:avLst/>
            </a:prstGeom>
            <a:solidFill>
              <a:srgbClr val="e2c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27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5cab"/>
                  </a:solidFill>
                  <a:latin typeface="Myriad Pro"/>
                </a:rPr>
                <a:t>5</a:t>
              </a:r>
              <a:r>
                <a:rPr b="1" lang="tr-TR" sz="3000" spc="-1" strike="noStrike">
                  <a:solidFill>
                    <a:srgbClr val="005cab"/>
                  </a:solidFill>
                  <a:latin typeface="Myriad Pro"/>
                </a:rPr>
                <a:t>1</a:t>
              </a:r>
              <a:r>
                <a:rPr b="1" lang="en-US" sz="3000" spc="-1" strike="noStrike">
                  <a:solidFill>
                    <a:srgbClr val="005cab"/>
                  </a:solidFill>
                  <a:latin typeface="Myriad Pro"/>
                </a:rPr>
                <a:t>%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0" name="Grup 26"/>
            <p:cNvGrpSpPr/>
            <p:nvPr/>
          </p:nvGrpSpPr>
          <p:grpSpPr>
            <a:xfrm>
              <a:off x="7350840" y="3692520"/>
              <a:ext cx="677160" cy="608040"/>
              <a:chOff x="7350840" y="3692520"/>
              <a:chExt cx="677160" cy="608040"/>
            </a:xfrm>
          </p:grpSpPr>
          <p:sp>
            <p:nvSpPr>
              <p:cNvPr id="571" name="Altıgen 32"/>
              <p:cNvSpPr/>
              <p:nvPr/>
            </p:nvSpPr>
            <p:spPr>
              <a:xfrm>
                <a:off x="7350840" y="3692520"/>
                <a:ext cx="677160" cy="608040"/>
              </a:xfrm>
              <a:prstGeom prst="hexagon">
                <a:avLst>
                  <a:gd name="adj" fmla="val 24985"/>
                  <a:gd name="vf" fmla="val 115470"/>
                </a:avLst>
              </a:prstGeom>
              <a:solidFill>
                <a:srgbClr val="e2c391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2" name="Oval 33"/>
              <p:cNvSpPr/>
              <p:nvPr/>
            </p:nvSpPr>
            <p:spPr>
              <a:xfrm>
                <a:off x="7536240" y="3843360"/>
                <a:ext cx="306000" cy="306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3" name="Dikdörtgen 27"/>
            <p:cNvSpPr/>
            <p:nvPr/>
          </p:nvSpPr>
          <p:spPr>
            <a:xfrm>
              <a:off x="1158840" y="3705120"/>
              <a:ext cx="5065920" cy="582840"/>
            </a:xfrm>
            <a:prstGeom prst="rect">
              <a:avLst/>
            </a:prstGeom>
            <a:solidFill>
              <a:srgbClr val="e2c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54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5cab"/>
                  </a:solidFill>
                  <a:latin typeface="Myriad Pro"/>
                </a:rPr>
                <a:t>Lorem ipsum dolor sit amet,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5cab"/>
                  </a:solidFill>
                  <a:latin typeface="Myriad Pro"/>
                </a:rPr>
                <a:t>consectetur adipiscing elit.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4" name="Grup 34"/>
          <p:cNvGrpSpPr/>
          <p:nvPr/>
        </p:nvGrpSpPr>
        <p:grpSpPr>
          <a:xfrm>
            <a:off x="1158840" y="4300560"/>
            <a:ext cx="6869160" cy="608040"/>
            <a:chOff x="1158840" y="4300560"/>
            <a:chExt cx="6869160" cy="608040"/>
          </a:xfrm>
        </p:grpSpPr>
        <p:sp>
          <p:nvSpPr>
            <p:cNvPr id="575" name="Dikdörtgen 35"/>
            <p:cNvSpPr/>
            <p:nvPr/>
          </p:nvSpPr>
          <p:spPr>
            <a:xfrm>
              <a:off x="6199200" y="4313160"/>
              <a:ext cx="1295280" cy="582840"/>
            </a:xfrm>
            <a:prstGeom prst="rect">
              <a:avLst/>
            </a:prstGeom>
            <a:solidFill>
              <a:srgbClr val="f04e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27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3000" spc="-1" strike="noStrike">
                  <a:solidFill>
                    <a:srgbClr val="ffffff"/>
                  </a:solidFill>
                  <a:latin typeface="Myriad Pro"/>
                </a:rPr>
                <a:t>43</a:t>
              </a:r>
              <a:r>
                <a:rPr b="1" lang="en-US" sz="3000" spc="-1" strike="noStrike">
                  <a:solidFill>
                    <a:srgbClr val="ffffff"/>
                  </a:solidFill>
                  <a:latin typeface="Myriad Pro"/>
                </a:rPr>
                <a:t>%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6" name="Grup 36"/>
            <p:cNvGrpSpPr/>
            <p:nvPr/>
          </p:nvGrpSpPr>
          <p:grpSpPr>
            <a:xfrm>
              <a:off x="7350840" y="4300560"/>
              <a:ext cx="677160" cy="608040"/>
              <a:chOff x="7350840" y="4300560"/>
              <a:chExt cx="677160" cy="608040"/>
            </a:xfrm>
          </p:grpSpPr>
          <p:sp>
            <p:nvSpPr>
              <p:cNvPr id="577" name="Altıgen 38"/>
              <p:cNvSpPr/>
              <p:nvPr/>
            </p:nvSpPr>
            <p:spPr>
              <a:xfrm>
                <a:off x="7350840" y="4300560"/>
                <a:ext cx="677160" cy="608040"/>
              </a:xfrm>
              <a:prstGeom prst="hexagon">
                <a:avLst>
                  <a:gd name="adj" fmla="val 24985"/>
                  <a:gd name="vf" fmla="val 115470"/>
                </a:avLst>
              </a:prstGeom>
              <a:solidFill>
                <a:srgbClr val="f04e22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Oval 39"/>
              <p:cNvSpPr/>
              <p:nvPr/>
            </p:nvSpPr>
            <p:spPr>
              <a:xfrm>
                <a:off x="7536240" y="4451400"/>
                <a:ext cx="306000" cy="306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9" name="Dikdörtgen 37"/>
            <p:cNvSpPr/>
            <p:nvPr/>
          </p:nvSpPr>
          <p:spPr>
            <a:xfrm>
              <a:off x="1158840" y="4313160"/>
              <a:ext cx="5065920" cy="582840"/>
            </a:xfrm>
            <a:prstGeom prst="rect">
              <a:avLst/>
            </a:prstGeom>
            <a:solidFill>
              <a:srgbClr val="f04e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54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Myriad Pro"/>
                </a:rPr>
                <a:t>Lorem ipsum dolor sit amet,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Myriad Pro"/>
                </a:rPr>
                <a:t>consectetur adipiscing elit.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0" name="Grup 40"/>
          <p:cNvGrpSpPr/>
          <p:nvPr/>
        </p:nvGrpSpPr>
        <p:grpSpPr>
          <a:xfrm>
            <a:off x="1158840" y="4908600"/>
            <a:ext cx="6869160" cy="608040"/>
            <a:chOff x="1158840" y="4908600"/>
            <a:chExt cx="6869160" cy="608040"/>
          </a:xfrm>
        </p:grpSpPr>
        <p:sp>
          <p:nvSpPr>
            <p:cNvPr id="581" name="Dikdörtgen 41"/>
            <p:cNvSpPr/>
            <p:nvPr/>
          </p:nvSpPr>
          <p:spPr>
            <a:xfrm>
              <a:off x="6199200" y="4921200"/>
              <a:ext cx="1295280" cy="582840"/>
            </a:xfrm>
            <a:prstGeom prst="rect">
              <a:avLst/>
            </a:prstGeom>
            <a:solidFill>
              <a:srgbClr val="eed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27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3000" spc="-1" strike="noStrike">
                  <a:solidFill>
                    <a:srgbClr val="005cab"/>
                  </a:solidFill>
                  <a:latin typeface="Myriad Pro"/>
                </a:rPr>
                <a:t>36</a:t>
              </a:r>
              <a:r>
                <a:rPr b="1" lang="en-US" sz="3000" spc="-1" strike="noStrike">
                  <a:solidFill>
                    <a:srgbClr val="005cab"/>
                  </a:solidFill>
                  <a:latin typeface="Myriad Pro"/>
                </a:rPr>
                <a:t>%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2" name="Grup 42"/>
            <p:cNvGrpSpPr/>
            <p:nvPr/>
          </p:nvGrpSpPr>
          <p:grpSpPr>
            <a:xfrm>
              <a:off x="7350840" y="4908600"/>
              <a:ext cx="677160" cy="608040"/>
              <a:chOff x="7350840" y="4908600"/>
              <a:chExt cx="677160" cy="608040"/>
            </a:xfrm>
          </p:grpSpPr>
          <p:sp>
            <p:nvSpPr>
              <p:cNvPr id="583" name="Altıgen 44"/>
              <p:cNvSpPr/>
              <p:nvPr/>
            </p:nvSpPr>
            <p:spPr>
              <a:xfrm>
                <a:off x="7350840" y="4908600"/>
                <a:ext cx="677160" cy="608040"/>
              </a:xfrm>
              <a:prstGeom prst="hexagon">
                <a:avLst>
                  <a:gd name="adj" fmla="val 24985"/>
                  <a:gd name="vf" fmla="val 115470"/>
                </a:avLst>
              </a:prstGeom>
              <a:solidFill>
                <a:srgbClr val="eedec3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Oval 45"/>
              <p:cNvSpPr/>
              <p:nvPr/>
            </p:nvSpPr>
            <p:spPr>
              <a:xfrm>
                <a:off x="7536240" y="5059440"/>
                <a:ext cx="306000" cy="306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85" name="Dikdörtgen 43"/>
            <p:cNvSpPr/>
            <p:nvPr/>
          </p:nvSpPr>
          <p:spPr>
            <a:xfrm>
              <a:off x="1158840" y="4921200"/>
              <a:ext cx="5065920" cy="582840"/>
            </a:xfrm>
            <a:prstGeom prst="rect">
              <a:avLst/>
            </a:prstGeom>
            <a:solidFill>
              <a:srgbClr val="eed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54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5cab"/>
                  </a:solidFill>
                  <a:latin typeface="Myriad Pro"/>
                </a:rPr>
                <a:t>Lorem ipsum dolor sit amet,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5cab"/>
                  </a:solidFill>
                  <a:latin typeface="Myriad Pro"/>
                </a:rPr>
                <a:t>consectetur adipiscing elit.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04e22"/>
                </a:solidFill>
                <a:latin typeface="Aleo"/>
              </a:rPr>
              <a:t>There are many variations</a:t>
            </a:r>
            <a:endParaRPr b="1" lang="en-US" sz="30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587" name="Veri Yer Tutucusu 3"/>
          <p:cNvSpPr/>
          <p:nvPr/>
        </p:nvSpPr>
        <p:spPr>
          <a:xfrm>
            <a:off x="884160" y="6416640"/>
            <a:ext cx="2133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08AC-EE29-491F-B276-F43745F35D2D}" type="datetime3">
              <a:rPr b="0" lang="en-US" sz="1200" spc="-1" strike="noStrike">
                <a:solidFill>
                  <a:srgbClr val="0a3437"/>
                </a:solidFill>
                <a:latin typeface="Myriad Pro"/>
                <a:ea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Altbilgi Yer Tutucusu 4"/>
          <p:cNvSpPr/>
          <p:nvPr/>
        </p:nvSpPr>
        <p:spPr>
          <a:xfrm>
            <a:off x="884160" y="6207120"/>
            <a:ext cx="28958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a3437"/>
                </a:solidFill>
                <a:latin typeface="Myriad Pro"/>
                <a:ea typeface="Arial"/>
              </a:rPr>
              <a:t>@sylvainperr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ayt Numarası Yer Tutucusu 5"/>
          <p:cNvSpPr/>
          <p:nvPr/>
        </p:nvSpPr>
        <p:spPr>
          <a:xfrm>
            <a:off x="250920" y="6159600"/>
            <a:ext cx="622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7677-A2E6-4F8E-AC53-92A195B4DE26}" type="slidenum">
              <a:rPr b="1" lang="en-US" sz="2800" spc="-1" strike="noStrike">
                <a:solidFill>
                  <a:srgbClr val="0a3437"/>
                </a:solidFill>
                <a:latin typeface="Myriad Pro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68000" y="333360"/>
            <a:ext cx="5543640" cy="2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Myriad Pro"/>
              </a:rPr>
              <a:t>BIG DATA &amp; DUE PROCESS</a:t>
            </a:r>
            <a:endParaRPr b="0" lang="en-US" sz="1500" spc="-1" strike="noStrike">
              <a:solidFill>
                <a:srgbClr val="000000"/>
              </a:solidFill>
              <a:latin typeface="Myriad Pro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611280" y="1341360"/>
          <a:ext cx="2544840" cy="4159440"/>
        </p:xfrm>
        <a:graphic>
          <a:graphicData uri="http://schemas.openxmlformats.org/drawingml/2006/table">
            <a:tbl>
              <a:tblPr/>
              <a:tblGrid>
                <a:gridCol w="2544840"/>
              </a:tblGrid>
              <a:tr h="576360">
                <a:tc>
                  <a:txBody>
                    <a:bodyPr tIns="90000" b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Myriad Pro"/>
                        </a:rPr>
                        <a:t>Curabitur a quam eu mauris mattis facilisi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4e22"/>
                    </a:solidFill>
                  </a:tcPr>
                </a:tc>
              </a:tr>
              <a:tr h="4107960">
                <a:tc>
                  <a:txBody>
                    <a:bodyPr tIns="18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04e22"/>
                        </a:buClr>
                        <a:buFont typeface="Myriad Pro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04e22"/>
                          </a:solidFill>
                          <a:latin typeface="Myriad Pro"/>
                        </a:rPr>
                        <a:t>Etyma laoreet purus eget lectus aliquet posuere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341280"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2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95959"/>
                          </a:solidFill>
                          <a:latin typeface="Myriad Pro"/>
                          <a:ea typeface="Arial"/>
                        </a:rPr>
                        <a:t>Nullam eu sapien id tortor condimentum interdum interdum id ipsum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04e22"/>
                        </a:buClr>
                        <a:buFont typeface="Myriad Pro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04e22"/>
                          </a:solidFill>
                          <a:latin typeface="Myriad Pro"/>
                        </a:rPr>
                        <a:t>Etiam laoreet et posuere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341280"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2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95959"/>
                          </a:solidFill>
                          <a:latin typeface="Myriad Pro"/>
                          <a:ea typeface="Arial"/>
                        </a:rPr>
                        <a:t>Nullam eu sapien id tortor condimentum interdum interdum id ipsum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04e22"/>
                        </a:buClr>
                        <a:buFont typeface="Myriad Pro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04e22"/>
                          </a:solidFill>
                          <a:latin typeface="Myriad Pro"/>
                        </a:rPr>
                        <a:t>Etiam laoreet purus eget lectus aliquet posuere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341280"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2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95959"/>
                          </a:solidFill>
                          <a:latin typeface="Myriad Pro"/>
                          <a:ea typeface="Arial"/>
                        </a:rPr>
                        <a:t>Nullam eu sapien id tortor condimentum interdum interdum id ipsum.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ebe7e2"/>
                        </a:gs>
                        <a:gs pos="100000">
                          <a:srgbClr val="fbfaf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592" name=""/>
          <p:cNvGraphicFramePr/>
          <p:nvPr/>
        </p:nvGraphicFramePr>
        <p:xfrm>
          <a:off x="3335400" y="1341360"/>
          <a:ext cx="2544840" cy="4222800"/>
        </p:xfrm>
        <a:graphic>
          <a:graphicData uri="http://schemas.openxmlformats.org/drawingml/2006/table">
            <a:tbl>
              <a:tblPr/>
              <a:tblGrid>
                <a:gridCol w="2544840"/>
              </a:tblGrid>
              <a:tr h="576360">
                <a:tc>
                  <a:txBody>
                    <a:bodyPr tIns="90000" b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Myriad Pro"/>
                        </a:rPr>
                        <a:t>Curabitur a quam eu mauris mattis facilisi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4e22"/>
                    </a:solidFill>
                  </a:tcPr>
                </a:tc>
              </a:tr>
              <a:tr h="3966120">
                <a:tc>
                  <a:txBody>
                    <a:bodyPr tIns="18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04e22"/>
                        </a:buClr>
                        <a:buFont typeface="Myriad Pro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04e22"/>
                          </a:solidFill>
                          <a:latin typeface="Myriad Pro"/>
                        </a:rPr>
                        <a:t>Etyma laoreet purus eg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341280"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2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95959"/>
                          </a:solidFill>
                          <a:latin typeface="Myriad Pro"/>
                          <a:ea typeface="Arial"/>
                        </a:rPr>
                        <a:t>Nullam eu sapien id tortor condimentum interdum interdum id ipsum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04e22"/>
                        </a:buClr>
                        <a:buFont typeface="Myriad Pro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04e22"/>
                          </a:solidFill>
                          <a:latin typeface="Myriad Pro"/>
                        </a:rPr>
                        <a:t>Etiam laoreet purus eget lectus aliquet posuere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341280"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2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95959"/>
                          </a:solidFill>
                          <a:latin typeface="Myriad Pro"/>
                          <a:ea typeface="Arial"/>
                        </a:rPr>
                        <a:t>Nullam eu sapien id tortor condimentum interdum interdum id ipsum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04e22"/>
                        </a:buClr>
                        <a:buFont typeface="Myriad Pro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04e22"/>
                          </a:solidFill>
                          <a:latin typeface="Myriad Pro"/>
                        </a:rPr>
                        <a:t>Etiam laoreet purus eget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341280"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2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95959"/>
                          </a:solidFill>
                          <a:latin typeface="Myriad Pro"/>
                          <a:ea typeface="Arial"/>
                        </a:rPr>
                        <a:t>Nullam eu sapien id tortor condimentum interdum interdum id ipsum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ebe7e2"/>
                        </a:gs>
                        <a:gs pos="100000">
                          <a:srgbClr val="f5f3f1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593" name=""/>
          <p:cNvGraphicFramePr/>
          <p:nvPr/>
        </p:nvGraphicFramePr>
        <p:xfrm>
          <a:off x="6021360" y="1341360"/>
          <a:ext cx="2544840" cy="4345200"/>
        </p:xfrm>
        <a:graphic>
          <a:graphicData uri="http://schemas.openxmlformats.org/drawingml/2006/table">
            <a:tbl>
              <a:tblPr/>
              <a:tblGrid>
                <a:gridCol w="2544840"/>
              </a:tblGrid>
              <a:tr h="576360">
                <a:tc>
                  <a:txBody>
                    <a:bodyPr tIns="90000" b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Myriad Pro"/>
                        </a:rPr>
                        <a:t>Curabitur a quam eu mauris mattis facilisi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4e22"/>
                    </a:solidFill>
                  </a:tcPr>
                </a:tc>
              </a:tr>
              <a:tr h="4164120">
                <a:tc>
                  <a:txBody>
                    <a:bodyPr tIns="18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04e22"/>
                        </a:buClr>
                        <a:buFont typeface="Myriad Pro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04e22"/>
                          </a:solidFill>
                          <a:latin typeface="Myriad Pro"/>
                        </a:rPr>
                        <a:t>Etyma laoreet purus eget lectus aliquet posuere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341280"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2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95959"/>
                          </a:solidFill>
                          <a:latin typeface="Myriad Pro"/>
                          <a:ea typeface="Arial"/>
                        </a:rPr>
                        <a:t>Nullam eu sapien id tortor condimentum interdum interdum id ipsum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04e22"/>
                        </a:buClr>
                        <a:buFont typeface="Myriad Pro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04e22"/>
                          </a:solidFill>
                          <a:latin typeface="Myriad Pro"/>
                        </a:rPr>
                        <a:t>Etiam laoreet purus eget lectus aliquet posuere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341280"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2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95959"/>
                          </a:solidFill>
                          <a:latin typeface="Myriad Pro"/>
                          <a:ea typeface="Arial"/>
                        </a:rPr>
                        <a:t>Nullam eu sapien id tortor condimentum interdum interdum id ipsum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04e22"/>
                        </a:buClr>
                        <a:buFont typeface="Myriad Pro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300" spc="-1" strike="noStrike">
                          <a:solidFill>
                            <a:srgbClr val="f04e22"/>
                          </a:solidFill>
                          <a:latin typeface="Myriad Pro"/>
                        </a:rPr>
                        <a:t>P</a:t>
                      </a:r>
                      <a:r>
                        <a:rPr b="1" lang="en-US" sz="1300" spc="-1" strike="noStrike">
                          <a:solidFill>
                            <a:srgbClr val="f04e22"/>
                          </a:solidFill>
                          <a:latin typeface="Myriad Pro"/>
                        </a:rPr>
                        <a:t>osuere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341280"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2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95959"/>
                          </a:solidFill>
                          <a:latin typeface="Myriad Pro"/>
                          <a:ea typeface="Arial"/>
                        </a:rPr>
                        <a:t>Nullam eu sapien id tortor condimentum interdum interdum id ipsum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ebe7e2"/>
                        </a:gs>
                        <a:gs pos="100000">
                          <a:srgbClr val="ede9e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6159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04e22"/>
                </a:solidFill>
                <a:latin typeface="Aleo"/>
              </a:rPr>
              <a:t>Mestibulum scelerisque nisi</a:t>
            </a:r>
            <a:endParaRPr b="1" lang="en-US" sz="41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595" name="Veri Yer Tutucusu 3"/>
          <p:cNvSpPr/>
          <p:nvPr/>
        </p:nvSpPr>
        <p:spPr>
          <a:xfrm>
            <a:off x="884160" y="6416640"/>
            <a:ext cx="2133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FFD0-0567-4FB7-B6DF-DB62F5D0BED5}" type="datetime3">
              <a:rPr b="0" lang="en-US" sz="1200" spc="-1" strike="noStrike">
                <a:solidFill>
                  <a:srgbClr val="0a3437"/>
                </a:solidFill>
                <a:latin typeface="Myriad Pro"/>
                <a:ea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Altbilgi Yer Tutucusu 4"/>
          <p:cNvSpPr/>
          <p:nvPr/>
        </p:nvSpPr>
        <p:spPr>
          <a:xfrm>
            <a:off x="884160" y="6207120"/>
            <a:ext cx="28958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a3437"/>
                </a:solidFill>
                <a:latin typeface="Myriad Pro"/>
                <a:ea typeface="Arial"/>
              </a:rPr>
              <a:t>@sylvainperr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ayt Numarası Yer Tutucusu 5"/>
          <p:cNvSpPr/>
          <p:nvPr/>
        </p:nvSpPr>
        <p:spPr>
          <a:xfrm>
            <a:off x="250920" y="6159600"/>
            <a:ext cx="622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EBCE-2DC5-4278-9799-8A8FED36D420}" type="slidenum">
              <a:rPr b="1" lang="en-US" sz="2800" spc="-1" strike="noStrike">
                <a:solidFill>
                  <a:srgbClr val="0a3437"/>
                </a:solidFill>
                <a:latin typeface="Myriad Pro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68000" y="333360"/>
            <a:ext cx="5543640" cy="2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Myriad Pro"/>
              </a:rPr>
              <a:t>BIG DATA &amp; DUE PROCESS</a:t>
            </a:r>
            <a:endParaRPr b="0" lang="en-US" sz="15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99" name="Başlık 8"/>
          <p:cNvSpPr/>
          <p:nvPr/>
        </p:nvSpPr>
        <p:spPr>
          <a:xfrm>
            <a:off x="477720" y="1301760"/>
            <a:ext cx="82296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Myriad Pro"/>
              </a:rPr>
              <a:t>Proin non ligula quis lectus varius fringilla ac at le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Başlık 8"/>
          <p:cNvSpPr/>
          <p:nvPr/>
        </p:nvSpPr>
        <p:spPr>
          <a:xfrm>
            <a:off x="539640" y="2060640"/>
            <a:ext cx="82296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Myriad Pro"/>
              </a:rPr>
              <a:t>Again… This is an example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Beşgen 2"/>
          <p:cNvSpPr/>
          <p:nvPr/>
        </p:nvSpPr>
        <p:spPr>
          <a:xfrm>
            <a:off x="403200" y="2492280"/>
            <a:ext cx="1116000" cy="936720"/>
          </a:xfrm>
          <a:prstGeom prst="pie">
            <a:avLst/>
          </a:prstGeom>
          <a:solidFill>
            <a:srgbClr val="005c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Myriad Pro"/>
              </a:rPr>
              <a:t>Servic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Myriad Pro"/>
              </a:rPr>
              <a:t>Nam turpi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Dikdörtgen 6"/>
          <p:cNvSpPr/>
          <p:nvPr/>
        </p:nvSpPr>
        <p:spPr>
          <a:xfrm>
            <a:off x="1566720" y="2492280"/>
            <a:ext cx="1152720" cy="936720"/>
          </a:xfrm>
          <a:prstGeom prst="rect">
            <a:avLst/>
          </a:prstGeom>
          <a:solidFill>
            <a:srgbClr val="f04e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Myriad Pro"/>
              </a:rPr>
              <a:t>Feugiat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Dikdörtgen 14"/>
          <p:cNvSpPr/>
          <p:nvPr/>
        </p:nvSpPr>
        <p:spPr>
          <a:xfrm>
            <a:off x="1568520" y="3429000"/>
            <a:ext cx="1150920" cy="936720"/>
          </a:xfrm>
          <a:prstGeom prst="rect">
            <a:avLst/>
          </a:prstGeom>
          <a:solidFill>
            <a:srgbClr val="f1e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Myriad Pro"/>
              </a:rPr>
              <a:t>Nulla Laore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Myriad Pro"/>
              </a:rPr>
              <a:t>Convallis variu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Myriad Pro"/>
              </a:rPr>
              <a:t>Pellentesque ge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Myriad Pro"/>
              </a:rPr>
              <a:t>Leo imperdi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Dikdörtgen 15"/>
          <p:cNvSpPr/>
          <p:nvPr/>
        </p:nvSpPr>
        <p:spPr>
          <a:xfrm>
            <a:off x="1568520" y="4365720"/>
            <a:ext cx="1150920" cy="792000"/>
          </a:xfrm>
          <a:prstGeom prst="rect">
            <a:avLst/>
          </a:prstGeom>
          <a:solidFill>
            <a:srgbClr val="cec6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Myriad Pro"/>
              </a:rPr>
              <a:t>Integer rhonc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Myriad Pro"/>
              </a:rPr>
              <a:t>Convallis variu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Myriad Pro"/>
              </a:rPr>
              <a:t>Pellentesque ge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Myriad Pro"/>
              </a:rPr>
              <a:t>Leo imperdi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Beşgen 2"/>
          <p:cNvSpPr/>
          <p:nvPr/>
        </p:nvSpPr>
        <p:spPr>
          <a:xfrm>
            <a:off x="403200" y="3441600"/>
            <a:ext cx="1116000" cy="936720"/>
          </a:xfrm>
          <a:prstGeom prst="pie">
            <a:avLst/>
          </a:prstGeom>
          <a:solidFill>
            <a:srgbClr val="00a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Myriad Pro"/>
              </a:rPr>
              <a:t>Servic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Myriad Pro"/>
              </a:rPr>
              <a:t>Nam turpi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Beşgen 2"/>
          <p:cNvSpPr/>
          <p:nvPr/>
        </p:nvSpPr>
        <p:spPr>
          <a:xfrm>
            <a:off x="403200" y="4390920"/>
            <a:ext cx="1116000" cy="766800"/>
          </a:xfrm>
          <a:prstGeom prst="pie">
            <a:avLst/>
          </a:prstGeom>
          <a:solidFill>
            <a:srgbClr val="e2c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Myriad Pro"/>
              </a:rPr>
              <a:t>Servic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Myriad Pro"/>
              </a:rPr>
              <a:t>Nam turpi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Dikdörtgen 19"/>
          <p:cNvSpPr/>
          <p:nvPr/>
        </p:nvSpPr>
        <p:spPr>
          <a:xfrm>
            <a:off x="2770200" y="2492280"/>
            <a:ext cx="1152360" cy="936720"/>
          </a:xfrm>
          <a:prstGeom prst="rect">
            <a:avLst/>
          </a:prstGeom>
          <a:solidFill>
            <a:srgbClr val="f04e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Myriad Pro"/>
              </a:rPr>
              <a:t>Pellent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Myriad Pro"/>
              </a:rPr>
              <a:t>a diam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Dikdörtgen 20"/>
          <p:cNvSpPr/>
          <p:nvPr/>
        </p:nvSpPr>
        <p:spPr>
          <a:xfrm>
            <a:off x="2771640" y="3429000"/>
            <a:ext cx="1152720" cy="936720"/>
          </a:xfrm>
          <a:prstGeom prst="rect">
            <a:avLst/>
          </a:prstGeom>
          <a:solidFill>
            <a:srgbClr val="f1e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Myriad Pro"/>
              </a:rPr>
              <a:t>Nulla Laore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Myriad Pro"/>
              </a:rPr>
              <a:t>Convallis variu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Myriad Pro"/>
              </a:rPr>
              <a:t>Pellentesque ge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Myriad Pro"/>
              </a:rPr>
              <a:t>Leo imperdi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Dikdörtgen 21"/>
          <p:cNvSpPr/>
          <p:nvPr/>
        </p:nvSpPr>
        <p:spPr>
          <a:xfrm>
            <a:off x="2771640" y="4365720"/>
            <a:ext cx="1152720" cy="792000"/>
          </a:xfrm>
          <a:prstGeom prst="rect">
            <a:avLst/>
          </a:prstGeom>
          <a:solidFill>
            <a:srgbClr val="cec6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Myriad Pro"/>
              </a:rPr>
              <a:t>Integer rhonc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Myriad Pro"/>
              </a:rPr>
              <a:t>Convallis variu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Myriad Pro"/>
              </a:rPr>
              <a:t>Pellentesque ge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Myriad Pro"/>
              </a:rPr>
              <a:t>Leo imperdi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Dikdörtgen 22"/>
          <p:cNvSpPr/>
          <p:nvPr/>
        </p:nvSpPr>
        <p:spPr>
          <a:xfrm>
            <a:off x="3994200" y="2492280"/>
            <a:ext cx="1152360" cy="936720"/>
          </a:xfrm>
          <a:prstGeom prst="rect">
            <a:avLst/>
          </a:prstGeom>
          <a:solidFill>
            <a:srgbClr val="f04e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Myriad Pro"/>
              </a:rPr>
              <a:t>Servi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Dikdörtgen 23"/>
          <p:cNvSpPr/>
          <p:nvPr/>
        </p:nvSpPr>
        <p:spPr>
          <a:xfrm>
            <a:off x="3995640" y="3429000"/>
            <a:ext cx="1152720" cy="936720"/>
          </a:xfrm>
          <a:prstGeom prst="rect">
            <a:avLst/>
          </a:prstGeom>
          <a:solidFill>
            <a:srgbClr val="f1e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Myriad Pro"/>
              </a:rPr>
              <a:t>Nulla Laore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Myriad Pro"/>
              </a:rPr>
              <a:t>Convallis variu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Myriad Pro"/>
              </a:rPr>
              <a:t>Pellentesque ge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Myriad Pro"/>
              </a:rPr>
              <a:t>Leo imperdi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Dikdörtgen 24"/>
          <p:cNvSpPr/>
          <p:nvPr/>
        </p:nvSpPr>
        <p:spPr>
          <a:xfrm>
            <a:off x="3995640" y="4365720"/>
            <a:ext cx="1152720" cy="792000"/>
          </a:xfrm>
          <a:prstGeom prst="rect">
            <a:avLst/>
          </a:prstGeom>
          <a:solidFill>
            <a:srgbClr val="cec6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Myriad Pro"/>
              </a:rPr>
              <a:t>Integer rhonc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Myriad Pro"/>
              </a:rPr>
              <a:t>Convallis variu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Dikdörtgen 25"/>
          <p:cNvSpPr/>
          <p:nvPr/>
        </p:nvSpPr>
        <p:spPr>
          <a:xfrm>
            <a:off x="5218200" y="2492280"/>
            <a:ext cx="1152360" cy="936720"/>
          </a:xfrm>
          <a:prstGeom prst="rect">
            <a:avLst/>
          </a:prstGeom>
          <a:solidFill>
            <a:srgbClr val="f04e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Myriad Pro"/>
              </a:rPr>
              <a:t>Vivamus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Myriad Pro"/>
              </a:rPr>
              <a:t>ullamc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Myriad Pro"/>
              </a:rPr>
              <a:t>nunc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Dikdörtgen 26"/>
          <p:cNvSpPr/>
          <p:nvPr/>
        </p:nvSpPr>
        <p:spPr>
          <a:xfrm>
            <a:off x="5219640" y="3429000"/>
            <a:ext cx="1152720" cy="936720"/>
          </a:xfrm>
          <a:prstGeom prst="rect">
            <a:avLst/>
          </a:prstGeom>
          <a:solidFill>
            <a:srgbClr val="f1e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Myriad Pro"/>
              </a:rPr>
              <a:t>Nulla Laore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Myriad Pro"/>
              </a:rPr>
              <a:t>Convallis variu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Myriad Pro"/>
              </a:rPr>
              <a:t>Pellentesque ge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Myriad Pro"/>
              </a:rPr>
              <a:t>Leo imperdi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Dikdörtgen 27"/>
          <p:cNvSpPr/>
          <p:nvPr/>
        </p:nvSpPr>
        <p:spPr>
          <a:xfrm>
            <a:off x="5219640" y="4365720"/>
            <a:ext cx="1152720" cy="792000"/>
          </a:xfrm>
          <a:prstGeom prst="rect">
            <a:avLst/>
          </a:prstGeom>
          <a:solidFill>
            <a:srgbClr val="cec6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Myriad Pro"/>
              </a:rPr>
              <a:t>Integer rhonc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Myriad Pro"/>
              </a:rPr>
              <a:t>Convallis variu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Myriad Pro"/>
              </a:rPr>
              <a:t>Pellentesque ge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Myriad Pro"/>
              </a:rPr>
              <a:t>Leo imperdi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Dikdörtgen 28"/>
          <p:cNvSpPr/>
          <p:nvPr/>
        </p:nvSpPr>
        <p:spPr>
          <a:xfrm>
            <a:off x="6443640" y="2492280"/>
            <a:ext cx="1150920" cy="936720"/>
          </a:xfrm>
          <a:prstGeom prst="rect">
            <a:avLst/>
          </a:prstGeom>
          <a:solidFill>
            <a:srgbClr val="f04e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Myriad Pro"/>
              </a:rPr>
              <a:t>In eget era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Dikdörtgen 29"/>
          <p:cNvSpPr/>
          <p:nvPr/>
        </p:nvSpPr>
        <p:spPr>
          <a:xfrm>
            <a:off x="6443640" y="3429000"/>
            <a:ext cx="1152720" cy="936720"/>
          </a:xfrm>
          <a:prstGeom prst="rect">
            <a:avLst/>
          </a:prstGeom>
          <a:solidFill>
            <a:srgbClr val="f1e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Myriad Pro"/>
              </a:rPr>
              <a:t>Nulla Laore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Myriad Pro"/>
              </a:rPr>
              <a:t>Convallis variu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Myriad Pro"/>
              </a:rPr>
              <a:t>Pellentesque ge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Myriad Pro"/>
              </a:rPr>
              <a:t>Leo imperdi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Dikdörtgen 30"/>
          <p:cNvSpPr/>
          <p:nvPr/>
        </p:nvSpPr>
        <p:spPr>
          <a:xfrm>
            <a:off x="6443640" y="4365720"/>
            <a:ext cx="1152720" cy="792000"/>
          </a:xfrm>
          <a:prstGeom prst="rect">
            <a:avLst/>
          </a:prstGeom>
          <a:solidFill>
            <a:srgbClr val="cec6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Myriad Pro"/>
              </a:rPr>
              <a:t>Integer rhonc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Myriad Pro"/>
              </a:rPr>
              <a:t>Convallis variu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Myriad Pro"/>
              </a:rPr>
              <a:t>Pellentesque ge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Myriad Pro"/>
              </a:rPr>
              <a:t>Leo imperdi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Dikdörtgen 31"/>
          <p:cNvSpPr/>
          <p:nvPr/>
        </p:nvSpPr>
        <p:spPr>
          <a:xfrm>
            <a:off x="7667640" y="2492280"/>
            <a:ext cx="1150920" cy="936720"/>
          </a:xfrm>
          <a:prstGeom prst="rect">
            <a:avLst/>
          </a:prstGeom>
          <a:solidFill>
            <a:srgbClr val="f04e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Myriad Pro"/>
              </a:rPr>
              <a:t>Aliquam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Myriad Pro"/>
              </a:rPr>
              <a:t>pretiu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Dikdörtgen 32"/>
          <p:cNvSpPr/>
          <p:nvPr/>
        </p:nvSpPr>
        <p:spPr>
          <a:xfrm>
            <a:off x="7669080" y="3429000"/>
            <a:ext cx="1150920" cy="936720"/>
          </a:xfrm>
          <a:prstGeom prst="rect">
            <a:avLst/>
          </a:prstGeom>
          <a:solidFill>
            <a:srgbClr val="f1e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Myriad Pro"/>
              </a:rPr>
              <a:t>Nulla Laore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Myriad Pro"/>
              </a:rPr>
              <a:t>Convallis variu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Myriad Pro"/>
              </a:rPr>
              <a:t>Pellentesque ge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Myriad Pro"/>
              </a:rPr>
              <a:t>Leo imperdi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Dikdörtgen 33"/>
          <p:cNvSpPr/>
          <p:nvPr/>
        </p:nvSpPr>
        <p:spPr>
          <a:xfrm>
            <a:off x="7669080" y="4365720"/>
            <a:ext cx="1150920" cy="792000"/>
          </a:xfrm>
          <a:prstGeom prst="rect">
            <a:avLst/>
          </a:prstGeom>
          <a:solidFill>
            <a:srgbClr val="cec6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Myriad Pro"/>
              </a:rPr>
              <a:t>Integer rhonc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Myriad Pro"/>
              </a:rPr>
              <a:t>Convallis variu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Myriad Pro"/>
              </a:rPr>
              <a:t>Pellentesque ge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Myriad Pro"/>
              </a:rPr>
              <a:t>Leo imperdi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313080" y="2060640"/>
            <a:ext cx="51465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8f2da"/>
                </a:solidFill>
                <a:latin typeface="Aleo"/>
              </a:rPr>
              <a:t>...any</a:t>
            </a:r>
            <a:br>
              <a:rPr sz="6000"/>
            </a:br>
            <a:r>
              <a:rPr b="1" i="1" lang="en-US" sz="6000" spc="-1" strike="noStrike">
                <a:solidFill>
                  <a:srgbClr val="f8f2da"/>
                </a:solidFill>
                <a:latin typeface="Aleo"/>
              </a:rPr>
              <a:t>Questions?</a:t>
            </a:r>
            <a:endParaRPr b="1" lang="en-US" sz="6000" spc="-1" strike="noStrike">
              <a:solidFill>
                <a:srgbClr val="f04e22"/>
              </a:solidFill>
              <a:latin typeface="Aleo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708360" y="4052880"/>
            <a:ext cx="4751280" cy="21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Myriad Pro"/>
              </a:rPr>
              <a:t>313 Silken laumann dr.</a:t>
            </a:r>
            <a:endParaRPr b="0" lang="en-US" sz="1700" spc="-1" strike="noStrike">
              <a:solidFill>
                <a:srgbClr val="000000"/>
              </a:solidFill>
              <a:latin typeface="Myriad Pro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Myriad Pro"/>
              </a:rPr>
              <a:t>Newmarket, ontario L3x 2y5</a:t>
            </a:r>
            <a:endParaRPr b="0" lang="en-US" sz="1700" spc="-1" strike="noStrike">
              <a:solidFill>
                <a:srgbClr val="000000"/>
              </a:solidFill>
              <a:latin typeface="Myriad Pro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Myriad Pro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Myriad Pro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Myriad Pro"/>
              </a:rPr>
              <a:t>M 647-896-4947</a:t>
            </a:r>
            <a:endParaRPr b="0" lang="en-US" sz="1700" spc="-1" strike="noStrike">
              <a:solidFill>
                <a:srgbClr val="000000"/>
              </a:solidFill>
              <a:latin typeface="Myriad Pro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Myriad Pro"/>
              </a:rPr>
              <a:t>r.sylvain.perrier@gmail.com</a:t>
            </a:r>
            <a:endParaRPr b="0" lang="en-US" sz="1700" spc="-1" strike="noStrike">
              <a:solidFill>
                <a:srgbClr val="000000"/>
              </a:solidFill>
              <a:latin typeface="Myriad Pro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Myriad Pro"/>
              </a:rPr>
              <a:t>@sylvainperrier</a:t>
            </a:r>
            <a:endParaRPr b="0" lang="en-US" sz="1700" spc="-1" strike="noStrike">
              <a:solidFill>
                <a:srgbClr val="000000"/>
              </a:solidFill>
              <a:latin typeface="Myriad Pro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Myriad Pro"/>
              </a:rPr>
              <a:t>www.sylvainperrier.com</a:t>
            </a:r>
            <a:endParaRPr b="0" lang="en-US" sz="1700" spc="-1" strike="noStrike">
              <a:solidFill>
                <a:srgbClr val="000000"/>
              </a:solidFill>
              <a:latin typeface="Myriad Pro"/>
            </a:endParaRPr>
          </a:p>
        </p:txBody>
      </p:sp>
      <p:pic>
        <p:nvPicPr>
          <p:cNvPr id="624" name="Resim Yer Tutucusu 10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3189240" cy="992160"/>
          </a:xfrm>
          <a:prstGeom prst="rect">
            <a:avLst/>
          </a:prstGeom>
          <a:ln w="0">
            <a:noFill/>
          </a:ln>
        </p:spPr>
      </p:pic>
      <p:sp>
        <p:nvSpPr>
          <p:cNvPr id="625" name="Düz Bağlayıcı 14"/>
          <p:cNvSpPr/>
          <p:nvPr/>
        </p:nvSpPr>
        <p:spPr>
          <a:xfrm>
            <a:off x="6084720" y="4844880"/>
            <a:ext cx="2267280" cy="0"/>
          </a:xfrm>
          <a:prstGeom prst="line">
            <a:avLst/>
          </a:prstGeom>
          <a:ln w="147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13:44:53Z</dcterms:created>
  <dc:creator>Ayzeek</dc:creator>
  <dc:description/>
  <dc:language>en-US</dc:language>
  <cp:lastModifiedBy>Ayzeek</cp:lastModifiedBy>
  <dcterms:modified xsi:type="dcterms:W3CDTF">2014-03-18T19:52:31Z</dcterms:modified>
  <cp:revision>199</cp:revision>
  <dc:subject/>
  <dc:title>PowerPoint Sunusu</dc:title>
</cp:coreProperties>
</file>